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  <p:sldId id="291" r:id="rId51"/>
    <p:sldId id="292" r:id="rId52"/>
    <p:sldId id="293" r:id="rId53"/>
    <p:sldId id="294" r:id="rId54"/>
    <p:sldId id="295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slide" Target="slides/slide36.xml"/><Relationship Id="rId52" Type="http://schemas.openxmlformats.org/officeDocument/2006/relationships/slide" Target="slides/slide37.xml"/><Relationship Id="rId53" Type="http://schemas.openxmlformats.org/officeDocument/2006/relationships/slide" Target="slides/slide38.xml"/><Relationship Id="rId54" Type="http://schemas.openxmlformats.org/officeDocument/2006/relationships/slide" Target="slides/slide39.xml"/><Relationship Id="rId55" Type="http://schemas.openxmlformats.org/officeDocument/2006/relationships/slide" Target="slides/slide40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340A-0ECC-4E70-9486-3BB3E7C8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D2C9-806B-491C-8D35-6A0644F76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E914D-6495-4FE7-B7AB-8B189FDC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F9CF85-1533-4859-87A9-4F3146581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3C736-A77C-406F-ABFA-1C11E19F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BF167-93B5-46AE-AFF6-D209201C5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BCED4A-4484-4994-BD6B-DC856692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3D6640-E770-4A20-A193-71FC2C340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EB6B9-EE1C-4C57-BC80-625895B75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8046E6-FDD3-4677-8D07-0EE7C07E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987060-8AA8-494B-944C-E2C487779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2F06A-77FD-4FAD-97B7-53301582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DBED-8A3A-4029-AED0-FADB895AB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F1523-F3DB-48D0-831E-7C91828D1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065C1-9BCA-4694-9E35-2C861738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0877F-814C-424D-AB82-F3A2659D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F09E93-FB76-44CB-8483-28A9EFAAC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B7BAF2-2008-4574-9C06-9F7F0F056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FB9DF-0B9B-4B7D-9767-64EBD7F3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0937CA-DE0A-47DA-A732-E7BF8ABC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5EA809-54E4-415F-B4FF-913D51BBD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3DE783-8988-4F08-A350-85EF131B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2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00BE0F-12B4-4410-8E47-6ABC409C9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3E03-9FFD-4EEB-9122-2B099E583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7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8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9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19ECD-4C10-4A47-BBBA-386CA6BA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D0BA69-2563-4851-BAE0-EBB00369A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E9669-8024-49DC-9C99-10AFA80B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19FE5A-8CDC-4167-AE64-5EC129F28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B0D301-2CEF-4DD2-8D90-05A9223C0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23E80-F52B-4248-8390-3707BFC7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43F58-2D7F-487B-B8DF-03E71B0D8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A87C2-1B65-461E-9B78-C0E44B7A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77116A-F586-4239-BF0A-F92F50AA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3A7DA4-F6DF-4264-915F-CFBB3C8C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EC2B9-380E-4D8C-959D-3D46A975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16A122-8AC9-452F-8B5D-314C99EDC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A4464F-22B9-4CBE-8D16-276E79BE1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7C91E-D091-4578-8CBA-BA9556D0C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4EDC41-55D2-4B1C-9797-803926C16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DF4D72-A44A-49B2-AFF4-72103132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28175F-7617-4F88-8B5F-DFA4D69AA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17C7B6-E00D-4FA5-ABE3-30A4EE172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767EF1-55AD-4B2B-A201-10D3AB233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A3297-6E96-4355-B59C-545281A7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4A1DF-7F4D-4934-A5E2-DC98AD860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52A7DC-B0B9-44AD-99CE-CC1410AC4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E5AA1C-F744-4ED7-819B-2C269ABF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B776C7-7510-4334-A66D-EF911D9A4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39225C-1DE8-4C4A-BB3E-F66EFC5A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478D85-499B-4B87-95A0-1DBA8B5B4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ED9C1-08C1-441B-8609-8AAB933F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C0B4F2-1633-4A73-AA50-6FAA350A8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26C8A-2A7C-41E6-ABAD-CBCD96C8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A55FE-EE99-432B-AEB5-3E7AB9FB2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F254BE-2ADC-4341-9F10-A31B6A4D4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FDF0F-958D-4FC7-88D6-3BE7DB3DB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3E850C-7AB4-4F28-80BF-D7C7FD77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8AF2D-24A6-43D9-A4B8-DA7808EA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EEDEC-8BDC-40C0-A447-2F5775F6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39EC04-F3D5-4D68-AD0B-C756287AE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5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5F8D0B-1281-4D07-98B5-E508BE5F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48E976-F54A-46AF-8A93-BD8EE12EC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3D2F36-0499-42B5-AE06-863961B3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84EEC1-B543-4447-84B5-FED26F788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46B3DB-3D5F-4215-9CA3-85944A8E6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0B366A-9374-41DD-BD30-2BA870BF8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CB1BD8-B8D6-4B05-A6C0-ABA0E4090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B39E3D-34DB-46F3-9723-DFC9F5969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447F90-4DF7-4E4C-AA9D-DBC2B966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C4C6C-792C-4C40-9859-B31F0CEB2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9648E2-F699-402D-841F-D085555AB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D90BAA-0BE7-40C7-A43B-963157060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D292F-366E-4830-B5E6-AC8158166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83C60-8F46-4121-862D-E55EF0A1B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A5DC0-7F59-4F0E-AAC5-832BFC67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01716-CA86-4679-8586-C21B91F5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F1BC6-929B-4502-A7C5-88A72917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F68FF-A14E-4B9B-BEAB-F0F32291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44EB-BF06-42F6-80F3-BF8700683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2490-68ED-4F45-8E7F-DFE89C09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4B8F-C14E-473A-97DB-6F602D17C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B05A9-E29E-495A-8306-17E1B9E5E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85BEA-683C-4DA2-B2B8-F92A80AC7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B5F8-793A-4E85-AC0A-67C344D58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7D9E-6203-461C-9BE2-0670C574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C4290-AB61-4841-A863-A003374F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1ECB-1FFA-47CC-8646-AC675FB55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49C3-ADB9-478E-8D01-0CCDF63C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7B27-9586-4E36-B365-8003A177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6472-3C03-49EF-ACD6-BF8A4BD03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0214D-E25F-4090-A8FF-AA0647302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FD566-C161-46F8-9FD2-75522475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AB9D89-E206-4355-A81B-C830CCA3D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F0526-595F-4022-AA3A-F01F3A01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2B404D-43D5-4D78-BDF8-3B8FF73D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3DC257-BDA4-40EF-BAAC-079444A39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2A0778-ADA8-4A61-A132-76366A2E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B82CE-92F9-4FA0-8B08-C3EA9C56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BD24C-54DB-4496-A915-D102E2FFB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161E-C151-4999-B069-760B5CEC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854D29-63D8-49B8-9FF6-75F4FC56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142109-003B-468F-AD19-EA966582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9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80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F110B-3625-4251-9CCA-66D8C56C6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496D6-D356-407C-BCF5-500D56F8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D04FF-B49A-4EC1-AE9C-FBA298539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F96AA-C8F9-40E9-803D-254386F55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6B20E6-EFC7-43F9-A983-97AF42DBD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0A4D70-CEBB-4913-ACDD-E2503E1D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2B3E0-793A-432A-8776-A5EA6078D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2E99A-535A-45A5-B828-AE6F966A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A4178-F883-45DA-BE65-C599D2E8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781A02-21E4-471D-8641-C3C33B8E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0A487-265D-4E5B-BB2C-71AE205E1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73EA11-9C5D-4507-B717-23F204588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B8550-2E24-461F-AC9C-70B070F757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1553F-836F-42D0-BBD4-CD5EFED09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D5D4C-1037-4297-B4BB-60FB7BCC2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ED625-33B2-4F57-BC3C-A7863F60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BB39BD-D140-47F2-A597-E89490FD1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BC8CC0-898F-4728-AF92-E226BFC2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1BC32-0313-4810-BB0F-7EF0A9CD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018C-54B0-4BA4-BF0C-5066A2507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ubTitle"/>
          </p:nvPr>
        </p:nvSpPr>
        <p:spPr>
          <a:xfrm>
            <a:off x="712800" y="1371600"/>
            <a:ext cx="771696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A5A075-B107-46AE-AB87-FAC2E770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ADB8B-1980-41AA-9328-D334B822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E8EBAE-AE6B-48CF-A081-8BC28CEB7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109D2-A2CB-4E1D-9965-B03C621C7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712800" y="4781520"/>
            <a:ext cx="771696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1F1C92-0106-4D3D-898E-B0D7ADBD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7040" y="301104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71280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667040" y="4781520"/>
            <a:ext cx="376560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D8D5F-B9D0-4CC4-8B07-C3C084340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32208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931360" y="301104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71280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3" name="PlaceHolder 6"/>
          <p:cNvSpPr>
            <a:spLocks noGrp="1"/>
          </p:cNvSpPr>
          <p:nvPr>
            <p:ph/>
          </p:nvPr>
        </p:nvSpPr>
        <p:spPr>
          <a:xfrm>
            <a:off x="332208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4" name="PlaceHolder 7"/>
          <p:cNvSpPr>
            <a:spLocks noGrp="1"/>
          </p:cNvSpPr>
          <p:nvPr>
            <p:ph/>
          </p:nvPr>
        </p:nvSpPr>
        <p:spPr>
          <a:xfrm>
            <a:off x="5931360" y="4781520"/>
            <a:ext cx="2484720" cy="16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97C94A-9DF1-4D04-BBD9-D544FA0CE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A3AB36-DA1F-4354-A889-CA6A02AAC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2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087E9-B2C3-4E13-A450-037AFE81F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ACEC4-CA4D-45DF-A1CC-F2FD8FA6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09.xml"/><Relationship Id="rId12" Type="http://schemas.openxmlformats.org/officeDocument/2006/relationships/slideLayout" Target="../slideLayouts/slideLayout110.xml"/><Relationship Id="rId13" Type="http://schemas.openxmlformats.org/officeDocument/2006/relationships/slideLayout" Target="../slideLayouts/slideLayout111.xml"/><Relationship Id="rId14" Type="http://schemas.openxmlformats.org/officeDocument/2006/relationships/slideLayout" Target="../slideLayouts/slideLayout112.xml"/><Relationship Id="rId15" Type="http://schemas.openxmlformats.org/officeDocument/2006/relationships/slideLayout" Target="../slideLayouts/slideLayout113.xml"/><Relationship Id="rId16" Type="http://schemas.openxmlformats.org/officeDocument/2006/relationships/slideLayout" Target="../slideLayouts/slideLayout114.xml"/><Relationship Id="rId17" Type="http://schemas.openxmlformats.org/officeDocument/2006/relationships/slideLayout" Target="../slideLayouts/slideLayout115.xml"/><Relationship Id="rId18" Type="http://schemas.openxmlformats.org/officeDocument/2006/relationships/slideLayout" Target="../slideLayouts/slideLayout116.xml"/><Relationship Id="rId19" Type="http://schemas.openxmlformats.org/officeDocument/2006/relationships/slideLayout" Target="../slideLayouts/slideLayout117.xml"/><Relationship Id="rId20" Type="http://schemas.openxmlformats.org/officeDocument/2006/relationships/slideLayout" Target="../slideLayouts/slideLayout118.xml"/><Relationship Id="rId21" Type="http://schemas.openxmlformats.org/officeDocument/2006/relationships/slideLayout" Target="../slideLayouts/slideLayout119.xml"/><Relationship Id="rId22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21.xml"/><Relationship Id="rId12" Type="http://schemas.openxmlformats.org/officeDocument/2006/relationships/slideLayout" Target="../slideLayouts/slideLayout122.xml"/><Relationship Id="rId13" Type="http://schemas.openxmlformats.org/officeDocument/2006/relationships/slideLayout" Target="../slideLayouts/slideLayout123.xml"/><Relationship Id="rId14" Type="http://schemas.openxmlformats.org/officeDocument/2006/relationships/slideLayout" Target="../slideLayouts/slideLayout124.xml"/><Relationship Id="rId15" Type="http://schemas.openxmlformats.org/officeDocument/2006/relationships/slideLayout" Target="../slideLayouts/slideLayout125.xml"/><Relationship Id="rId16" Type="http://schemas.openxmlformats.org/officeDocument/2006/relationships/slideLayout" Target="../slideLayouts/slideLayout126.xml"/><Relationship Id="rId17" Type="http://schemas.openxmlformats.org/officeDocument/2006/relationships/slideLayout" Target="../slideLayouts/slideLayout127.xml"/><Relationship Id="rId18" Type="http://schemas.openxmlformats.org/officeDocument/2006/relationships/slideLayout" Target="../slideLayouts/slideLayout128.xml"/><Relationship Id="rId19" Type="http://schemas.openxmlformats.org/officeDocument/2006/relationships/slideLayout" Target="../slideLayouts/slideLayout129.xml"/><Relationship Id="rId20" Type="http://schemas.openxmlformats.org/officeDocument/2006/relationships/slideLayout" Target="../slideLayouts/slideLayout130.xml"/><Relationship Id="rId21" Type="http://schemas.openxmlformats.org/officeDocument/2006/relationships/slideLayout" Target="../slideLayouts/slideLayout131.xml"/><Relationship Id="rId22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3.xml"/><Relationship Id="rId12" Type="http://schemas.openxmlformats.org/officeDocument/2006/relationships/slideLayout" Target="../slideLayouts/slideLayout134.xml"/><Relationship Id="rId13" Type="http://schemas.openxmlformats.org/officeDocument/2006/relationships/slideLayout" Target="../slideLayouts/slideLayout135.xml"/><Relationship Id="rId14" Type="http://schemas.openxmlformats.org/officeDocument/2006/relationships/slideLayout" Target="../slideLayouts/slideLayout136.xml"/><Relationship Id="rId15" Type="http://schemas.openxmlformats.org/officeDocument/2006/relationships/slideLayout" Target="../slideLayouts/slideLayout137.xml"/><Relationship Id="rId16" Type="http://schemas.openxmlformats.org/officeDocument/2006/relationships/slideLayout" Target="../slideLayouts/slideLayout138.xml"/><Relationship Id="rId17" Type="http://schemas.openxmlformats.org/officeDocument/2006/relationships/slideLayout" Target="../slideLayouts/slideLayout139.xml"/><Relationship Id="rId18" Type="http://schemas.openxmlformats.org/officeDocument/2006/relationships/slideLayout" Target="../slideLayouts/slideLayout140.xml"/><Relationship Id="rId19" Type="http://schemas.openxmlformats.org/officeDocument/2006/relationships/slideLayout" Target="../slideLayouts/slideLayout141.xml"/><Relationship Id="rId20" Type="http://schemas.openxmlformats.org/officeDocument/2006/relationships/slideLayout" Target="../slideLayouts/slideLayout142.xml"/><Relationship Id="rId21" Type="http://schemas.openxmlformats.org/officeDocument/2006/relationships/slideLayout" Target="../slideLayouts/slideLayout143.xml"/><Relationship Id="rId22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45.xml"/><Relationship Id="rId12" Type="http://schemas.openxmlformats.org/officeDocument/2006/relationships/slideLayout" Target="../slideLayouts/slideLayout146.xml"/><Relationship Id="rId13" Type="http://schemas.openxmlformats.org/officeDocument/2006/relationships/slideLayout" Target="../slideLayouts/slideLayout147.xml"/><Relationship Id="rId14" Type="http://schemas.openxmlformats.org/officeDocument/2006/relationships/slideLayout" Target="../slideLayouts/slideLayout148.xml"/><Relationship Id="rId15" Type="http://schemas.openxmlformats.org/officeDocument/2006/relationships/slideLayout" Target="../slideLayouts/slideLayout149.xml"/><Relationship Id="rId16" Type="http://schemas.openxmlformats.org/officeDocument/2006/relationships/slideLayout" Target="../slideLayouts/slideLayout150.xml"/><Relationship Id="rId17" Type="http://schemas.openxmlformats.org/officeDocument/2006/relationships/slideLayout" Target="../slideLayouts/slideLayout151.xml"/><Relationship Id="rId18" Type="http://schemas.openxmlformats.org/officeDocument/2006/relationships/slideLayout" Target="../slideLayouts/slideLayout152.xml"/><Relationship Id="rId19" Type="http://schemas.openxmlformats.org/officeDocument/2006/relationships/slideLayout" Target="../slideLayouts/slideLayout153.xml"/><Relationship Id="rId20" Type="http://schemas.openxmlformats.org/officeDocument/2006/relationships/slideLayout" Target="../slideLayouts/slideLayout154.xml"/><Relationship Id="rId21" Type="http://schemas.openxmlformats.org/officeDocument/2006/relationships/slideLayout" Target="../slideLayouts/slideLayout155.xml"/><Relationship Id="rId22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57.xml"/><Relationship Id="rId12" Type="http://schemas.openxmlformats.org/officeDocument/2006/relationships/slideLayout" Target="../slideLayouts/slideLayout158.xml"/><Relationship Id="rId13" Type="http://schemas.openxmlformats.org/officeDocument/2006/relationships/slideLayout" Target="../slideLayouts/slideLayout159.xml"/><Relationship Id="rId14" Type="http://schemas.openxmlformats.org/officeDocument/2006/relationships/slideLayout" Target="../slideLayouts/slideLayout160.xml"/><Relationship Id="rId15" Type="http://schemas.openxmlformats.org/officeDocument/2006/relationships/slideLayout" Target="../slideLayouts/slideLayout161.xml"/><Relationship Id="rId16" Type="http://schemas.openxmlformats.org/officeDocument/2006/relationships/slideLayout" Target="../slideLayouts/slideLayout162.xml"/><Relationship Id="rId17" Type="http://schemas.openxmlformats.org/officeDocument/2006/relationships/slideLayout" Target="../slideLayouts/slideLayout163.xml"/><Relationship Id="rId18" Type="http://schemas.openxmlformats.org/officeDocument/2006/relationships/slideLayout" Target="../slideLayouts/slideLayout164.xml"/><Relationship Id="rId19" Type="http://schemas.openxmlformats.org/officeDocument/2006/relationships/slideLayout" Target="../slideLayouts/slideLayout165.xml"/><Relationship Id="rId20" Type="http://schemas.openxmlformats.org/officeDocument/2006/relationships/slideLayout" Target="../slideLayouts/slideLayout166.xml"/><Relationship Id="rId21" Type="http://schemas.openxmlformats.org/officeDocument/2006/relationships/slideLayout" Target="../slideLayouts/slideLayout167.xml"/><Relationship Id="rId22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73.xml"/><Relationship Id="rId12" Type="http://schemas.openxmlformats.org/officeDocument/2006/relationships/slideLayout" Target="../slideLayouts/slideLayout74.xml"/><Relationship Id="rId13" Type="http://schemas.openxmlformats.org/officeDocument/2006/relationships/slideLayout" Target="../slideLayouts/slideLayout75.xml"/><Relationship Id="rId14" Type="http://schemas.openxmlformats.org/officeDocument/2006/relationships/slideLayout" Target="../slideLayouts/slideLayout76.xml"/><Relationship Id="rId15" Type="http://schemas.openxmlformats.org/officeDocument/2006/relationships/slideLayout" Target="../slideLayouts/slideLayout77.xml"/><Relationship Id="rId16" Type="http://schemas.openxmlformats.org/officeDocument/2006/relationships/slideLayout" Target="../slideLayouts/slideLayout78.xml"/><Relationship Id="rId17" Type="http://schemas.openxmlformats.org/officeDocument/2006/relationships/slideLayout" Target="../slideLayouts/slideLayout79.xml"/><Relationship Id="rId18" Type="http://schemas.openxmlformats.org/officeDocument/2006/relationships/slideLayout" Target="../slideLayouts/slideLayout80.xml"/><Relationship Id="rId19" Type="http://schemas.openxmlformats.org/officeDocument/2006/relationships/slideLayout" Target="../slideLayouts/slideLayout81.xml"/><Relationship Id="rId20" Type="http://schemas.openxmlformats.org/officeDocument/2006/relationships/slideLayout" Target="../slideLayouts/slideLayout82.xml"/><Relationship Id="rId21" Type="http://schemas.openxmlformats.org/officeDocument/2006/relationships/slideLayout" Target="../slideLayouts/slideLayout83.xml"/><Relationship Id="rId22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85.xml"/><Relationship Id="rId12" Type="http://schemas.openxmlformats.org/officeDocument/2006/relationships/slideLayout" Target="../slideLayouts/slideLayout86.xml"/><Relationship Id="rId13" Type="http://schemas.openxmlformats.org/officeDocument/2006/relationships/slideLayout" Target="../slideLayouts/slideLayout87.xml"/><Relationship Id="rId14" Type="http://schemas.openxmlformats.org/officeDocument/2006/relationships/slideLayout" Target="../slideLayouts/slideLayout88.xml"/><Relationship Id="rId15" Type="http://schemas.openxmlformats.org/officeDocument/2006/relationships/slideLayout" Target="../slideLayouts/slideLayout89.xml"/><Relationship Id="rId16" Type="http://schemas.openxmlformats.org/officeDocument/2006/relationships/slideLayout" Target="../slideLayouts/slideLayout90.xml"/><Relationship Id="rId17" Type="http://schemas.openxmlformats.org/officeDocument/2006/relationships/slideLayout" Target="../slideLayouts/slideLayout91.xml"/><Relationship Id="rId18" Type="http://schemas.openxmlformats.org/officeDocument/2006/relationships/slideLayout" Target="../slideLayouts/slideLayout92.xml"/><Relationship Id="rId19" Type="http://schemas.openxmlformats.org/officeDocument/2006/relationships/slideLayout" Target="../slideLayouts/slideLayout93.xml"/><Relationship Id="rId20" Type="http://schemas.openxmlformats.org/officeDocument/2006/relationships/slideLayout" Target="../slideLayouts/slideLayout94.xml"/><Relationship Id="rId21" Type="http://schemas.openxmlformats.org/officeDocument/2006/relationships/slideLayout" Target="../slideLayouts/slideLayout95.xml"/><Relationship Id="rId22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97.xml"/><Relationship Id="rId12" Type="http://schemas.openxmlformats.org/officeDocument/2006/relationships/slideLayout" Target="../slideLayouts/slideLayout98.xml"/><Relationship Id="rId13" Type="http://schemas.openxmlformats.org/officeDocument/2006/relationships/slideLayout" Target="../slideLayouts/slideLayout99.xml"/><Relationship Id="rId14" Type="http://schemas.openxmlformats.org/officeDocument/2006/relationships/slideLayout" Target="../slideLayouts/slideLayout100.xml"/><Relationship Id="rId15" Type="http://schemas.openxmlformats.org/officeDocument/2006/relationships/slideLayout" Target="../slideLayouts/slideLayout101.xml"/><Relationship Id="rId16" Type="http://schemas.openxmlformats.org/officeDocument/2006/relationships/slideLayout" Target="../slideLayouts/slideLayout102.xml"/><Relationship Id="rId17" Type="http://schemas.openxmlformats.org/officeDocument/2006/relationships/slideLayout" Target="../slideLayouts/slideLayout103.xml"/><Relationship Id="rId18" Type="http://schemas.openxmlformats.org/officeDocument/2006/relationships/slideLayout" Target="../slideLayouts/slideLayout104.xml"/><Relationship Id="rId19" Type="http://schemas.openxmlformats.org/officeDocument/2006/relationships/slideLayout" Target="../slideLayouts/slideLayout105.xml"/><Relationship Id="rId20" Type="http://schemas.openxmlformats.org/officeDocument/2006/relationships/slideLayout" Target="../slideLayouts/slideLayout106.xml"/><Relationship Id="rId21" Type="http://schemas.openxmlformats.org/officeDocument/2006/relationships/slideLayout" Target="../slideLayouts/slideLayout107.xml"/><Relationship Id="rId22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2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0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1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2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7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9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0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1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2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3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D05E4-CECB-40EF-8816-282022C8F2A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83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584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585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86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87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88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89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0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1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2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3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4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5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6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7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8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99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00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01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02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03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04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605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06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7" name="Rectangle 31"/>
          <p:cNvSpPr/>
          <p:nvPr/>
        </p:nvSpPr>
        <p:spPr>
          <a:xfrm>
            <a:off x="9360" y="2476440"/>
            <a:ext cx="9125280" cy="4368960"/>
          </a:xfrm>
          <a:prstGeom prst="rect">
            <a:avLst/>
          </a:prstGeom>
          <a:solidFill>
            <a:srgbClr val="073779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8" name="Straight Connector 32"/>
          <p:cNvSpPr/>
          <p:nvPr/>
        </p:nvSpPr>
        <p:spPr>
          <a:xfrm>
            <a:off x="9360" y="2476440"/>
            <a:ext cx="9125280" cy="1800"/>
          </a:xfrm>
          <a:prstGeom prst="line">
            <a:avLst/>
          </a:prstGeom>
          <a:ln w="25560">
            <a:solidFill>
              <a:srgbClr val="8fd9fb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dt" idx="19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 type="ftr" idx="20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 type="sldNum" idx="21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63A6-3893-4BD5-8FBB-AB4F3750FD2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1"/>
    <p:sldLayoutId id="2147483767" r:id="rId12"/>
    <p:sldLayoutId id="2147483768" r:id="rId13"/>
    <p:sldLayoutId id="2147483769" r:id="rId14"/>
    <p:sldLayoutId id="2147483770" r:id="rId15"/>
    <p:sldLayoutId id="2147483771" r:id="rId16"/>
    <p:sldLayoutId id="2147483772" r:id="rId17"/>
    <p:sldLayoutId id="2147483773" r:id="rId18"/>
    <p:sldLayoutId id="2147483774" r:id="rId19"/>
    <p:sldLayoutId id="2147483775" r:id="rId20"/>
    <p:sldLayoutId id="2147483776" r:id="rId21"/>
    <p:sldLayoutId id="2147483777" r:id="rId22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0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51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652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653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54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55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56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57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58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59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0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1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2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3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4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5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6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7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8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69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70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71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672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673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74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675" name="Group 31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676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77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 type="dt" idx="22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 type="ftr" idx="23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 type="sldNum" idx="24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F3F81-41BC-40AB-9353-4782D61EEE1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1"/>
    <p:sldLayoutId id="2147483780" r:id="rId12"/>
    <p:sldLayoutId id="2147483781" r:id="rId13"/>
    <p:sldLayoutId id="2147483782" r:id="rId14"/>
    <p:sldLayoutId id="2147483783" r:id="rId15"/>
    <p:sldLayoutId id="2147483784" r:id="rId16"/>
    <p:sldLayoutId id="2147483785" r:id="rId17"/>
    <p:sldLayoutId id="2147483786" r:id="rId18"/>
    <p:sldLayoutId id="2147483787" r:id="rId19"/>
    <p:sldLayoutId id="2147483788" r:id="rId20"/>
    <p:sldLayoutId id="2147483789" r:id="rId21"/>
    <p:sldLayoutId id="2147483790" r:id="rId22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20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721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722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23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24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25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26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27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28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29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0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1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2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3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4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5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6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7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8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39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40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41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742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43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44" name="Group 31"/>
          <p:cNvGrpSpPr/>
          <p:nvPr/>
        </p:nvGrpSpPr>
        <p:grpSpPr>
          <a:xfrm>
            <a:off x="9360" y="3809880"/>
            <a:ext cx="9125280" cy="3035520"/>
            <a:chOff x="9360" y="3809880"/>
            <a:chExt cx="9125280" cy="3035520"/>
          </a:xfrm>
        </p:grpSpPr>
        <p:sp>
          <p:nvSpPr>
            <p:cNvPr id="745" name="Rectangle 32"/>
            <p:cNvSpPr/>
            <p:nvPr/>
          </p:nvSpPr>
          <p:spPr>
            <a:xfrm>
              <a:off x="9360" y="3809880"/>
              <a:ext cx="9125280" cy="3035520"/>
            </a:xfrm>
            <a:prstGeom prst="rect">
              <a:avLst/>
            </a:prstGeom>
            <a:solidFill>
              <a:srgbClr val="073779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46" name="Straight Connector 33"/>
            <p:cNvSpPr/>
            <p:nvPr/>
          </p:nvSpPr>
          <p:spPr>
            <a:xfrm>
              <a:off x="9360" y="3809880"/>
              <a:ext cx="9125280" cy="1440"/>
            </a:xfrm>
            <a:prstGeom prst="line">
              <a:avLst/>
            </a:prstGeom>
            <a:ln w="25560">
              <a:solidFill>
                <a:srgbClr val="8fd9fb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25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26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27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7E541-74D7-4C7A-AA79-C9E0EEFA8AD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1"/>
    <p:sldLayoutId id="2147483793" r:id="rId12"/>
    <p:sldLayoutId id="2147483794" r:id="rId13"/>
    <p:sldLayoutId id="2147483795" r:id="rId14"/>
    <p:sldLayoutId id="2147483796" r:id="rId15"/>
    <p:sldLayoutId id="2147483797" r:id="rId16"/>
    <p:sldLayoutId id="2147483798" r:id="rId17"/>
    <p:sldLayoutId id="2147483799" r:id="rId18"/>
    <p:sldLayoutId id="2147483800" r:id="rId19"/>
    <p:sldLayoutId id="2147483801" r:id="rId20"/>
    <p:sldLayoutId id="2147483802" r:id="rId21"/>
    <p:sldLayoutId id="2147483803" r:id="rId22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78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79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79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9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9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9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95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96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9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9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79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1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2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4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6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7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8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0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10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811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1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 type="dt" idx="28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 type="ftr" idx="29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18" name="PlaceHolder 5"/>
          <p:cNvSpPr>
            <a:spLocks noGrp="1"/>
          </p:cNvSpPr>
          <p:nvPr>
            <p:ph type="sldNum" idx="30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5E03-8B3A-42AA-ABA0-C099C3191B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1"/>
    <p:sldLayoutId id="2147483806" r:id="rId12"/>
    <p:sldLayoutId id="2147483807" r:id="rId13"/>
    <p:sldLayoutId id="2147483808" r:id="rId14"/>
    <p:sldLayoutId id="2147483809" r:id="rId15"/>
    <p:sldLayoutId id="2147483810" r:id="rId16"/>
    <p:sldLayoutId id="2147483811" r:id="rId17"/>
    <p:sldLayoutId id="2147483812" r:id="rId18"/>
    <p:sldLayoutId id="2147483813" r:id="rId19"/>
    <p:sldLayoutId id="2147483814" r:id="rId20"/>
    <p:sldLayoutId id="2147483815" r:id="rId21"/>
    <p:sldLayoutId id="2147483816" r:id="rId22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856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857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858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59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0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1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2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3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4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5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6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7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8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69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70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71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72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73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74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75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76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877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878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7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0" name="Round Same Side Corner Rectangle 31"/>
          <p:cNvSpPr/>
          <p:nvPr/>
        </p:nvSpPr>
        <p:spPr>
          <a:xfrm>
            <a:off x="7299360" y="444600"/>
            <a:ext cx="1535040" cy="6400800"/>
          </a:xfrm>
          <a:custGeom>
            <a:avLst/>
            <a:gdLst/>
            <a:ahLst/>
            <a:rect l="l" t="t" r="r" b="b"/>
            <a:pathLst>
              <a:path w="1535113" h="6400800">
                <a:moveTo>
                  <a:pt x="767557" y="0"/>
                </a:moveTo>
                <a:lnTo>
                  <a:pt x="767557" y="0"/>
                </a:lnTo>
                <a:cubicBezTo>
                  <a:pt x="1191467" y="0"/>
                  <a:pt x="1535114" y="343647"/>
                  <a:pt x="1535114" y="767557"/>
                </a:cubicBezTo>
                <a:cubicBezTo>
                  <a:pt x="1535114" y="2645305"/>
                  <a:pt x="1535113" y="4523052"/>
                  <a:pt x="1535113" y="6400800"/>
                </a:cubicBezTo>
                <a:lnTo>
                  <a:pt x="1535113" y="6400800"/>
                </a:lnTo>
                <a:lnTo>
                  <a:pt x="0" y="6400800"/>
                </a:lnTo>
                <a:lnTo>
                  <a:pt x="0" y="6400800"/>
                </a:lnTo>
                <a:lnTo>
                  <a:pt x="0" y="767557"/>
                </a:lnTo>
                <a:cubicBezTo>
                  <a:pt x="0" y="343647"/>
                  <a:pt x="343647" y="0"/>
                  <a:pt x="767557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 type="dt" idx="31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 type="ftr" idx="32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85" name="PlaceHolder 5"/>
          <p:cNvSpPr>
            <a:spLocks noGrp="1"/>
          </p:cNvSpPr>
          <p:nvPr>
            <p:ph type="sldNum" idx="33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A76F9-D725-4659-A426-6567FBC0052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1"/>
    <p:sldLayoutId id="2147483819" r:id="rId12"/>
    <p:sldLayoutId id="2147483820" r:id="rId13"/>
    <p:sldLayoutId id="2147483821" r:id="rId14"/>
    <p:sldLayoutId id="2147483822" r:id="rId15"/>
    <p:sldLayoutId id="2147483823" r:id="rId16"/>
    <p:sldLayoutId id="2147483824" r:id="rId17"/>
    <p:sldLayoutId id="2147483825" r:id="rId18"/>
    <p:sldLayoutId id="2147483826" r:id="rId19"/>
    <p:sldLayoutId id="2147483827" r:id="rId20"/>
    <p:sldLayoutId id="2147483828" r:id="rId21"/>
    <p:sldLayoutId id="2147483829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1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7" name="Group 32"/>
          <p:cNvGrpSpPr/>
          <p:nvPr/>
        </p:nvGrpSpPr>
        <p:grpSpPr>
          <a:xfrm>
            <a:off x="-360" y="1577880"/>
            <a:ext cx="9472320" cy="4641120"/>
            <a:chOff x="-360" y="1577880"/>
            <a:chExt cx="9472320" cy="4641120"/>
          </a:xfrm>
        </p:grpSpPr>
        <p:sp>
          <p:nvSpPr>
            <p:cNvPr id="68" name="Freeform 33"/>
            <p:cNvSpPr/>
            <p:nvPr/>
          </p:nvSpPr>
          <p:spPr>
            <a:xfrm rot="15669000">
              <a:off x="3702600" y="-842040"/>
              <a:ext cx="2065680" cy="9264600"/>
            </a:xfrm>
            <a:custGeom>
              <a:avLst/>
              <a:gdLst/>
              <a:ahLst/>
              <a:rect l="l" t="t" r="r" b="b"/>
              <a:pathLst>
                <a:path w="2209695" h="9154402">
                  <a:moveTo>
                    <a:pt x="67397" y="8829966"/>
                  </a:moveTo>
                  <a:lnTo>
                    <a:pt x="0" y="1104848"/>
                  </a:lnTo>
                  <a:cubicBezTo>
                    <a:pt x="0" y="811824"/>
                    <a:pt x="116404" y="530802"/>
                    <a:pt x="323604" y="323603"/>
                  </a:cubicBezTo>
                  <a:cubicBezTo>
                    <a:pt x="530804" y="116404"/>
                    <a:pt x="811826" y="1"/>
                    <a:pt x="1104850" y="2"/>
                  </a:cubicBezTo>
                  <a:lnTo>
                    <a:pt x="1104848" y="0"/>
                  </a:lnTo>
                  <a:lnTo>
                    <a:pt x="1104848" y="0"/>
                  </a:lnTo>
                  <a:cubicBezTo>
                    <a:pt x="1397872" y="0"/>
                    <a:pt x="1678894" y="116404"/>
                    <a:pt x="1886093" y="323604"/>
                  </a:cubicBezTo>
                  <a:cubicBezTo>
                    <a:pt x="2093292" y="530804"/>
                    <a:pt x="2209695" y="811826"/>
                    <a:pt x="2209694" y="1104850"/>
                  </a:cubicBezTo>
                  <a:cubicBezTo>
                    <a:pt x="2209694" y="3788034"/>
                    <a:pt x="2209695" y="6471218"/>
                    <a:pt x="2209695" y="9154402"/>
                  </a:cubicBezTo>
                  <a:lnTo>
                    <a:pt x="2209695" y="9154402"/>
                  </a:lnTo>
                </a:path>
              </a:pathLst>
            </a:custGeom>
            <a:solidFill>
              <a:srgbClr val="073779">
                <a:alpha val="80000"/>
              </a:srgbClr>
            </a:solidFill>
            <a:ln w="25560">
              <a:solidFill>
                <a:srgbClr val="8fd9fb">
                  <a:alpha val="6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9" name="Freeform 34"/>
            <p:cNvSpPr/>
            <p:nvPr/>
          </p:nvSpPr>
          <p:spPr>
            <a:xfrm rot="15660000">
              <a:off x="5178960" y="1578240"/>
              <a:ext cx="1041480" cy="7135920"/>
            </a:xfrm>
            <a:custGeom>
              <a:avLst/>
              <a:gdLst/>
              <a:ahLst/>
              <a:rect l="l" t="t" r="r" b="b"/>
              <a:pathLst>
                <a:path w="1040884" h="7134813">
                  <a:moveTo>
                    <a:pt x="0" y="6971904"/>
                  </a:moveTo>
                  <a:lnTo>
                    <a:pt x="0" y="6971904"/>
                  </a:lnTo>
                  <a:lnTo>
                    <a:pt x="0" y="6971904"/>
                  </a:lnTo>
                  <a:lnTo>
                    <a:pt x="0" y="498324"/>
                  </a:lnTo>
                  <a:cubicBezTo>
                    <a:pt x="0" y="366160"/>
                    <a:pt x="52502" y="239410"/>
                    <a:pt x="145956" y="145956"/>
                  </a:cubicBezTo>
                  <a:cubicBezTo>
                    <a:pt x="239410" y="52502"/>
                    <a:pt x="366161" y="1"/>
                    <a:pt x="498325" y="1"/>
                  </a:cubicBezTo>
                  <a:lnTo>
                    <a:pt x="498324" y="0"/>
                  </a:lnTo>
                  <a:lnTo>
                    <a:pt x="498324" y="0"/>
                  </a:lnTo>
                  <a:cubicBezTo>
                    <a:pt x="630488" y="0"/>
                    <a:pt x="757238" y="52502"/>
                    <a:pt x="850692" y="145956"/>
                  </a:cubicBezTo>
                  <a:cubicBezTo>
                    <a:pt x="944146" y="239410"/>
                    <a:pt x="996647" y="366161"/>
                    <a:pt x="996647" y="498325"/>
                  </a:cubicBezTo>
                  <a:cubicBezTo>
                    <a:pt x="1030126" y="1663149"/>
                    <a:pt x="1037566" y="5867764"/>
                    <a:pt x="1040884" y="7134813"/>
                  </a:cubicBezTo>
                </a:path>
              </a:pathLst>
            </a:custGeom>
            <a:solidFill>
              <a:srgbClr val="1782bf">
                <a:alpha val="60000"/>
              </a:srgbClr>
            </a:solidFill>
            <a:ln w="31680">
              <a:solidFill>
                <a:srgbClr val="62bce9">
                  <a:alpha val="6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0" name="Freeform 35"/>
            <p:cNvSpPr/>
            <p:nvPr/>
          </p:nvSpPr>
          <p:spPr>
            <a:xfrm rot="15660000">
              <a:off x="6127560" y="-70200"/>
              <a:ext cx="931680" cy="5297400"/>
            </a:xfrm>
            <a:custGeom>
              <a:avLst/>
              <a:gdLst/>
              <a:ahLst/>
              <a:rect l="l" t="t" r="r" b="b"/>
              <a:pathLst>
                <a:path w="962833" h="6320186">
                  <a:moveTo>
                    <a:pt x="0" y="6172200"/>
                  </a:moveTo>
                  <a:lnTo>
                    <a:pt x="0" y="6172200"/>
                  </a:lnTo>
                  <a:lnTo>
                    <a:pt x="5534" y="6164375"/>
                  </a:lnTo>
                  <a:cubicBezTo>
                    <a:pt x="3689" y="4261983"/>
                    <a:pt x="1845" y="2359592"/>
                    <a:pt x="0" y="457200"/>
                  </a:cubicBezTo>
                  <a:cubicBezTo>
                    <a:pt x="0" y="335943"/>
                    <a:pt x="48169" y="219652"/>
                    <a:pt x="133911" y="133911"/>
                  </a:cubicBezTo>
                  <a:cubicBezTo>
                    <a:pt x="219653" y="48169"/>
                    <a:pt x="335944" y="0"/>
                    <a:pt x="457201" y="1"/>
                  </a:cubicBezTo>
                  <a:lnTo>
                    <a:pt x="457200" y="0"/>
                  </a:lnTo>
                  <a:lnTo>
                    <a:pt x="457200" y="0"/>
                  </a:lnTo>
                  <a:cubicBezTo>
                    <a:pt x="578457" y="0"/>
                    <a:pt x="694748" y="48169"/>
                    <a:pt x="780489" y="133911"/>
                  </a:cubicBezTo>
                  <a:cubicBezTo>
                    <a:pt x="866231" y="219653"/>
                    <a:pt x="914400" y="335944"/>
                    <a:pt x="914399" y="457201"/>
                  </a:cubicBezTo>
                  <a:cubicBezTo>
                    <a:pt x="943191" y="1489568"/>
                    <a:pt x="870354" y="4525828"/>
                    <a:pt x="962833" y="6320186"/>
                  </a:cubicBezTo>
                </a:path>
              </a:pathLst>
            </a:custGeom>
            <a:solidFill>
              <a:srgbClr val="1782b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1" name="Freeform 36"/>
            <p:cNvSpPr/>
            <p:nvPr/>
          </p:nvSpPr>
          <p:spPr>
            <a:xfrm rot="15660000">
              <a:off x="5623560" y="-612360"/>
              <a:ext cx="963720" cy="6321600"/>
            </a:xfrm>
            <a:custGeom>
              <a:avLst/>
              <a:gdLst/>
              <a:ahLst/>
              <a:rect l="l" t="t" r="r" b="b"/>
              <a:pathLst>
                <a:path w="962833" h="6320186">
                  <a:moveTo>
                    <a:pt x="0" y="6172200"/>
                  </a:moveTo>
                  <a:lnTo>
                    <a:pt x="0" y="6172200"/>
                  </a:lnTo>
                  <a:lnTo>
                    <a:pt x="0" y="6172200"/>
                  </a:lnTo>
                  <a:lnTo>
                    <a:pt x="0" y="457200"/>
                  </a:lnTo>
                  <a:cubicBezTo>
                    <a:pt x="0" y="335943"/>
                    <a:pt x="48169" y="219652"/>
                    <a:pt x="133911" y="133911"/>
                  </a:cubicBezTo>
                  <a:cubicBezTo>
                    <a:pt x="219653" y="48169"/>
                    <a:pt x="335944" y="0"/>
                    <a:pt x="457201" y="1"/>
                  </a:cubicBezTo>
                  <a:lnTo>
                    <a:pt x="457200" y="0"/>
                  </a:lnTo>
                  <a:lnTo>
                    <a:pt x="457200" y="0"/>
                  </a:lnTo>
                  <a:cubicBezTo>
                    <a:pt x="578457" y="0"/>
                    <a:pt x="694748" y="48169"/>
                    <a:pt x="780489" y="133911"/>
                  </a:cubicBezTo>
                  <a:cubicBezTo>
                    <a:pt x="866231" y="219653"/>
                    <a:pt x="914400" y="335944"/>
                    <a:pt x="914399" y="457201"/>
                  </a:cubicBezTo>
                  <a:cubicBezTo>
                    <a:pt x="943191" y="1489568"/>
                    <a:pt x="870354" y="4525828"/>
                    <a:pt x="962833" y="6320186"/>
                  </a:cubicBezTo>
                </a:path>
              </a:pathLst>
            </a:custGeom>
            <a:solidFill>
              <a:srgbClr val="073779">
                <a:alpha val="50000"/>
              </a:srgbClr>
            </a:solidFill>
            <a:ln w="25560">
              <a:solidFill>
                <a:srgbClr val="8fd9fb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2" name="Freeform 37"/>
            <p:cNvSpPr/>
            <p:nvPr/>
          </p:nvSpPr>
          <p:spPr>
            <a:xfrm rot="15660000">
              <a:off x="6394320" y="-279360"/>
              <a:ext cx="552240" cy="5105520"/>
            </a:xfrm>
            <a:custGeom>
              <a:avLst/>
              <a:gdLst/>
              <a:ahLst/>
              <a:rect l="l" t="t" r="r" b="b"/>
              <a:pathLst>
                <a:path w="552099" h="5109912">
                  <a:moveTo>
                    <a:pt x="0" y="5016061"/>
                  </a:moveTo>
                  <a:lnTo>
                    <a:pt x="0" y="5016061"/>
                  </a:lnTo>
                  <a:lnTo>
                    <a:pt x="0" y="251460"/>
                  </a:lnTo>
                  <a:cubicBezTo>
                    <a:pt x="0" y="184769"/>
                    <a:pt x="26493" y="120809"/>
                    <a:pt x="73651" y="73651"/>
                  </a:cubicBezTo>
                  <a:cubicBezTo>
                    <a:pt x="120809" y="26493"/>
                    <a:pt x="184769" y="0"/>
                    <a:pt x="251460" y="0"/>
                  </a:cubicBezTo>
                  <a:lnTo>
                    <a:pt x="251460" y="0"/>
                  </a:lnTo>
                  <a:cubicBezTo>
                    <a:pt x="318151" y="0"/>
                    <a:pt x="382111" y="26493"/>
                    <a:pt x="429269" y="73651"/>
                  </a:cubicBezTo>
                  <a:cubicBezTo>
                    <a:pt x="476427" y="120809"/>
                    <a:pt x="502920" y="184769"/>
                    <a:pt x="502920" y="251460"/>
                  </a:cubicBezTo>
                  <a:cubicBezTo>
                    <a:pt x="528237" y="1864408"/>
                    <a:pt x="536054" y="5039297"/>
                    <a:pt x="552099" y="5109912"/>
                  </a:cubicBezTo>
                </a:path>
              </a:pathLst>
            </a:custGeom>
            <a:solidFill>
              <a:srgbClr val="073779">
                <a:alpha val="30000"/>
              </a:srgbClr>
            </a:solidFill>
            <a:ln w="57240">
              <a:solidFill>
                <a:srgbClr val="8fd9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3" name="Freeform 38"/>
            <p:cNvSpPr/>
            <p:nvPr/>
          </p:nvSpPr>
          <p:spPr>
            <a:xfrm rot="15660000">
              <a:off x="7468200" y="1177920"/>
              <a:ext cx="536400" cy="2935080"/>
            </a:xfrm>
            <a:custGeom>
              <a:avLst/>
              <a:gdLst/>
              <a:ahLst/>
              <a:rect l="l" t="t" r="r" b="b"/>
              <a:pathLst>
                <a:path w="536285" h="2938929">
                  <a:moveTo>
                    <a:pt x="6777" y="2849391"/>
                  </a:moveTo>
                  <a:cubicBezTo>
                    <a:pt x="6668" y="1978928"/>
                    <a:pt x="109" y="1121923"/>
                    <a:pt x="0" y="251460"/>
                  </a:cubicBezTo>
                  <a:cubicBezTo>
                    <a:pt x="0" y="184769"/>
                    <a:pt x="26493" y="120809"/>
                    <a:pt x="73651" y="73651"/>
                  </a:cubicBezTo>
                  <a:cubicBezTo>
                    <a:pt x="120809" y="26493"/>
                    <a:pt x="184769" y="0"/>
                    <a:pt x="251460" y="0"/>
                  </a:cubicBezTo>
                  <a:lnTo>
                    <a:pt x="251460" y="0"/>
                  </a:lnTo>
                  <a:cubicBezTo>
                    <a:pt x="318151" y="0"/>
                    <a:pt x="382111" y="26493"/>
                    <a:pt x="429269" y="73651"/>
                  </a:cubicBezTo>
                  <a:cubicBezTo>
                    <a:pt x="476427" y="120809"/>
                    <a:pt x="502920" y="184769"/>
                    <a:pt x="502920" y="251460"/>
                  </a:cubicBezTo>
                  <a:cubicBezTo>
                    <a:pt x="528237" y="1864408"/>
                    <a:pt x="517682" y="905440"/>
                    <a:pt x="536285" y="2938929"/>
                  </a:cubicBezTo>
                </a:path>
              </a:pathLst>
            </a:custGeom>
            <a:solidFill>
              <a:srgbClr val="073779"/>
            </a:solidFill>
            <a:ln w="57240">
              <a:solidFill>
                <a:srgbClr val="8fd9f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74" name="Freeform 39"/>
          <p:cNvSpPr/>
          <p:nvPr/>
        </p:nvSpPr>
        <p:spPr>
          <a:xfrm rot="15660000">
            <a:off x="5750640" y="-641880"/>
            <a:ext cx="985680" cy="6048360"/>
          </a:xfrm>
          <a:custGeom>
            <a:avLst/>
            <a:gdLst/>
            <a:ahLst/>
            <a:rect l="l" t="t" r="r" b="b"/>
            <a:pathLst>
              <a:path w="981537" h="6338829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89058" y="4544471"/>
                  <a:pt x="981537" y="6338829"/>
                </a:cubicBezTo>
              </a:path>
            </a:pathLst>
          </a:cu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75" name="Group 40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76" name="Oval 41"/>
            <p:cNvSpPr/>
            <p:nvPr/>
          </p:nvSpPr>
          <p:spPr>
            <a:xfrm>
              <a:off x="238284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7" name="Oval 42"/>
            <p:cNvSpPr/>
            <p:nvPr/>
          </p:nvSpPr>
          <p:spPr>
            <a:xfrm>
              <a:off x="285588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8" name="Oval 43"/>
            <p:cNvSpPr/>
            <p:nvPr/>
          </p:nvSpPr>
          <p:spPr>
            <a:xfrm>
              <a:off x="1947600" y="46080"/>
              <a:ext cx="1023840" cy="86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9" name="Pie 44"/>
            <p:cNvSpPr/>
            <p:nvPr/>
          </p:nvSpPr>
          <p:spPr>
            <a:xfrm>
              <a:off x="1218960" y="-765000"/>
              <a:ext cx="3505320" cy="1520640"/>
            </a:xfrm>
            <a:custGeom>
              <a:avLst/>
              <a:gdLst/>
              <a:ahLst/>
              <a:rect l="l" t="t" r="r" b="b"/>
              <a:pathLst>
                <a:path w="3504811" h="1520823">
                  <a:moveTo>
                    <a:pt x="3504605" y="772070"/>
                  </a:moveTo>
                  <a:cubicBezTo>
                    <a:pt x="3489910" y="1187902"/>
                    <a:pt x="2708082" y="1521472"/>
                    <a:pt x="1749667" y="1520822"/>
                  </a:cubicBezTo>
                  <a:cubicBezTo>
                    <a:pt x="782047" y="1520166"/>
                    <a:pt x="-1220" y="1179326"/>
                    <a:pt x="0" y="759452"/>
                  </a:cubicBezTo>
                  <a:lnTo>
                    <a:pt x="1752406" y="760412"/>
                  </a:lnTo>
                  <a:lnTo>
                    <a:pt x="3504605" y="772070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0" name="Oval 45"/>
            <p:cNvSpPr/>
            <p:nvPr/>
          </p:nvSpPr>
          <p:spPr>
            <a:xfrm>
              <a:off x="2344680" y="141480"/>
              <a:ext cx="1023840" cy="95256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1" name="Arc 46"/>
            <p:cNvSpPr/>
            <p:nvPr/>
          </p:nvSpPr>
          <p:spPr>
            <a:xfrm rot="12470400">
              <a:off x="1177560" y="-177480"/>
              <a:ext cx="1133280" cy="831600"/>
            </a:xfrm>
            <a:custGeom>
              <a:avLst/>
              <a:gdLst/>
              <a:ahLst/>
              <a:rect l="l" t="t" r="r" b="b"/>
              <a:pathLst>
                <a:path stroke="0" w="1133349" h="831849">
                  <a:moveTo>
                    <a:pt x="4015" y="366498"/>
                  </a:moveTo>
                  <a:cubicBezTo>
                    <a:pt x="37923" y="158552"/>
                    <a:pt x="277195" y="1544"/>
                    <a:pt x="562525" y="11"/>
                  </a:cubicBezTo>
                  <a:cubicBezTo>
                    <a:pt x="845199" y="-1508"/>
                    <a:pt x="1086166" y="150110"/>
                    <a:pt x="1127314" y="355382"/>
                  </a:cubicBezTo>
                  <a:lnTo>
                    <a:pt x="566675" y="415925"/>
                  </a:lnTo>
                  <a:lnTo>
                    <a:pt x="4015" y="366498"/>
                  </a:lnTo>
                  <a:close/>
                </a:path>
                <a:path fill="none" w="1133349" h="831849">
                  <a:moveTo>
                    <a:pt x="4015" y="366498"/>
                  </a:moveTo>
                  <a:cubicBezTo>
                    <a:pt x="37923" y="158552"/>
                    <a:pt x="277195" y="1544"/>
                    <a:pt x="562525" y="11"/>
                  </a:cubicBezTo>
                  <a:cubicBezTo>
                    <a:pt x="845199" y="-1508"/>
                    <a:pt x="1086166" y="150110"/>
                    <a:pt x="1127314" y="355382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2" name="Pie 47"/>
            <p:cNvSpPr/>
            <p:nvPr/>
          </p:nvSpPr>
          <p:spPr>
            <a:xfrm rot="60000">
              <a:off x="786960" y="-197640"/>
              <a:ext cx="380880" cy="380880"/>
            </a:xfrm>
            <a:custGeom>
              <a:avLst/>
              <a:gdLst/>
              <a:ahLst/>
              <a:rect l="l" t="t" r="r" b="b"/>
              <a:pathLst>
                <a:path w="380958" h="381000">
                  <a:moveTo>
                    <a:pt x="380958" y="190416"/>
                  </a:moveTo>
                  <a:cubicBezTo>
                    <a:pt x="381004" y="293854"/>
                    <a:pt x="298508" y="378428"/>
                    <a:pt x="195112" y="380944"/>
                  </a:cubicBezTo>
                  <a:cubicBezTo>
                    <a:pt x="91715" y="383460"/>
                    <a:pt x="5204" y="302997"/>
                    <a:pt x="221" y="199679"/>
                  </a:cubicBezTo>
                  <a:lnTo>
                    <a:pt x="190479" y="190500"/>
                  </a:lnTo>
                  <a:lnTo>
                    <a:pt x="380958" y="190416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3" name="Arc 48"/>
            <p:cNvSpPr/>
            <p:nvPr/>
          </p:nvSpPr>
          <p:spPr>
            <a:xfrm rot="6387000">
              <a:off x="4862160" y="-838800"/>
              <a:ext cx="1452600" cy="1671480"/>
            </a:xfrm>
            <a:custGeom>
              <a:avLst/>
              <a:gdLst/>
              <a:ahLst/>
              <a:rect l="l" t="t" r="r" b="b"/>
              <a:pathLst>
                <a:path stroke="0" w="1452561" h="1671452">
                  <a:moveTo>
                    <a:pt x="492890" y="44327"/>
                  </a:moveTo>
                  <a:cubicBezTo>
                    <a:pt x="765979" y="-62311"/>
                    <a:pt x="1068027" y="27076"/>
                    <a:pt x="1262522" y="272089"/>
                  </a:cubicBezTo>
                  <a:cubicBezTo>
                    <a:pt x="1420111" y="470609"/>
                    <a:pt x="1485070" y="744251"/>
                    <a:pt x="1437074" y="1007392"/>
                  </a:cubicBezTo>
                  <a:cubicBezTo>
                    <a:pt x="1384318" y="1296629"/>
                    <a:pt x="1202728" y="1532297"/>
                    <a:pt x="959493" y="1627196"/>
                  </a:cubicBezTo>
                  <a:lnTo>
                    <a:pt x="726281" y="835726"/>
                  </a:lnTo>
                  <a:lnTo>
                    <a:pt x="492890" y="44327"/>
                  </a:lnTo>
                  <a:close/>
                </a:path>
                <a:path fill="none" w="1452561" h="1671452">
                  <a:moveTo>
                    <a:pt x="492890" y="44327"/>
                  </a:moveTo>
                  <a:cubicBezTo>
                    <a:pt x="765979" y="-62311"/>
                    <a:pt x="1068027" y="27076"/>
                    <a:pt x="1262522" y="272089"/>
                  </a:cubicBezTo>
                  <a:cubicBezTo>
                    <a:pt x="1420111" y="470609"/>
                    <a:pt x="1485070" y="744251"/>
                    <a:pt x="1437074" y="1007392"/>
                  </a:cubicBezTo>
                  <a:cubicBezTo>
                    <a:pt x="1384318" y="1296629"/>
                    <a:pt x="1202728" y="1532297"/>
                    <a:pt x="959493" y="16271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4" name="Oval 49"/>
            <p:cNvSpPr/>
            <p:nvPr/>
          </p:nvSpPr>
          <p:spPr>
            <a:xfrm>
              <a:off x="5362560" y="461880"/>
              <a:ext cx="757080" cy="64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5" name="Oval 50"/>
            <p:cNvSpPr/>
            <p:nvPr/>
          </p:nvSpPr>
          <p:spPr>
            <a:xfrm>
              <a:off x="4800600" y="152280"/>
              <a:ext cx="757080" cy="64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6" name="Arc 51"/>
            <p:cNvSpPr/>
            <p:nvPr/>
          </p:nvSpPr>
          <p:spPr>
            <a:xfrm rot="6387000">
              <a:off x="3395520" y="-1039680"/>
              <a:ext cx="1906560" cy="2046240"/>
            </a:xfrm>
            <a:custGeom>
              <a:avLst/>
              <a:gdLst/>
              <a:ahLst/>
              <a:rect l="l" t="t" r="r" b="b"/>
              <a:pathLst>
                <a:path stroke="0" w="1906585" h="2046060">
                  <a:moveTo>
                    <a:pt x="673803" y="44956"/>
                  </a:moveTo>
                  <a:cubicBezTo>
                    <a:pt x="1186853" y="-123885"/>
                    <a:pt x="1728613" y="194809"/>
                    <a:pt x="1871950" y="749773"/>
                  </a:cubicBezTo>
                  <a:cubicBezTo>
                    <a:pt x="2007629" y="1275088"/>
                    <a:pt x="1735648" y="1822304"/>
                    <a:pt x="1253539" y="1993994"/>
                  </a:cubicBezTo>
                  <a:lnTo>
                    <a:pt x="953293" y="1023030"/>
                  </a:lnTo>
                  <a:lnTo>
                    <a:pt x="673803" y="44956"/>
                  </a:lnTo>
                  <a:close/>
                </a:path>
                <a:path fill="none" w="1906585" h="2046060">
                  <a:moveTo>
                    <a:pt x="673803" y="44956"/>
                  </a:moveTo>
                  <a:cubicBezTo>
                    <a:pt x="1186853" y="-123885"/>
                    <a:pt x="1728613" y="194809"/>
                    <a:pt x="1871950" y="749773"/>
                  </a:cubicBezTo>
                  <a:cubicBezTo>
                    <a:pt x="2007629" y="1275088"/>
                    <a:pt x="1735648" y="1822304"/>
                    <a:pt x="1253539" y="1993994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7" name="Oval 52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8" name="Oval 53"/>
            <p:cNvSpPr/>
            <p:nvPr/>
          </p:nvSpPr>
          <p:spPr>
            <a:xfrm>
              <a:off x="619128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89" name="Rectangle 5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13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13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5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6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3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1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2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4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6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7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8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4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0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51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5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4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5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6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C761C-C36D-47B7-9D7D-B7CD7DA3E9B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31"/>
          <p:cNvSpPr/>
          <p:nvPr/>
        </p:nvSpPr>
        <p:spPr>
          <a:xfrm rot="15660000">
            <a:off x="5180040" y="1836720"/>
            <a:ext cx="1039680" cy="7135920"/>
          </a:xfrm>
          <a:custGeom>
            <a:avLst/>
            <a:gdLst/>
            <a:ahLst/>
            <a:rect l="l" t="t" r="r" b="b"/>
            <a:pathLst>
              <a:path w="1040884" h="7134813">
                <a:moveTo>
                  <a:pt x="0" y="6971904"/>
                </a:moveTo>
                <a:lnTo>
                  <a:pt x="0" y="6971904"/>
                </a:lnTo>
                <a:lnTo>
                  <a:pt x="0" y="6971904"/>
                </a:lnTo>
                <a:lnTo>
                  <a:pt x="0" y="498324"/>
                </a:lnTo>
                <a:cubicBezTo>
                  <a:pt x="0" y="366160"/>
                  <a:pt x="52502" y="239410"/>
                  <a:pt x="145956" y="145956"/>
                </a:cubicBezTo>
                <a:cubicBezTo>
                  <a:pt x="239410" y="52502"/>
                  <a:pt x="366161" y="1"/>
                  <a:pt x="498325" y="1"/>
                </a:cubicBezTo>
                <a:lnTo>
                  <a:pt x="498324" y="0"/>
                </a:lnTo>
                <a:lnTo>
                  <a:pt x="498324" y="0"/>
                </a:lnTo>
                <a:cubicBezTo>
                  <a:pt x="630488" y="0"/>
                  <a:pt x="757238" y="52502"/>
                  <a:pt x="850692" y="145956"/>
                </a:cubicBezTo>
                <a:cubicBezTo>
                  <a:pt x="944146" y="239410"/>
                  <a:pt x="996647" y="366161"/>
                  <a:pt x="996647" y="498325"/>
                </a:cubicBezTo>
                <a:cubicBezTo>
                  <a:pt x="1030126" y="1663149"/>
                  <a:pt x="1037566" y="5867764"/>
                  <a:pt x="1040884" y="7134813"/>
                </a:cubicBezTo>
              </a:path>
            </a:pathLst>
          </a:custGeom>
          <a:solidFill>
            <a:srgbClr val="1782bf">
              <a:alpha val="60000"/>
            </a:srgbClr>
          </a:solidFill>
          <a:ln w="31680">
            <a:solidFill>
              <a:srgbClr val="62bce9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196" name="Picture 32" descr="Title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97" name="Group 33"/>
          <p:cNvGrpSpPr/>
          <p:nvPr/>
        </p:nvGrpSpPr>
        <p:grpSpPr>
          <a:xfrm>
            <a:off x="784080" y="-1220760"/>
            <a:ext cx="5811840" cy="2952720"/>
            <a:chOff x="784080" y="-1220760"/>
            <a:chExt cx="5811840" cy="2952720"/>
          </a:xfrm>
        </p:grpSpPr>
        <p:sp>
          <p:nvSpPr>
            <p:cNvPr id="198" name="Oval 34"/>
            <p:cNvSpPr/>
            <p:nvPr/>
          </p:nvSpPr>
          <p:spPr>
            <a:xfrm>
              <a:off x="2382840" y="112248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Oval 35"/>
            <p:cNvSpPr/>
            <p:nvPr/>
          </p:nvSpPr>
          <p:spPr>
            <a:xfrm>
              <a:off x="2855880" y="76320"/>
              <a:ext cx="1023840" cy="838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Oval 36"/>
            <p:cNvSpPr/>
            <p:nvPr/>
          </p:nvSpPr>
          <p:spPr>
            <a:xfrm>
              <a:off x="1947600" y="46080"/>
              <a:ext cx="1023840" cy="8683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Pie 37"/>
            <p:cNvSpPr/>
            <p:nvPr/>
          </p:nvSpPr>
          <p:spPr>
            <a:xfrm>
              <a:off x="1218960" y="-765000"/>
              <a:ext cx="3505320" cy="1520640"/>
            </a:xfrm>
            <a:custGeom>
              <a:avLst/>
              <a:gdLst/>
              <a:ahLst/>
              <a:rect l="l" t="t" r="r" b="b"/>
              <a:pathLst>
                <a:path w="3504811" h="1520823">
                  <a:moveTo>
                    <a:pt x="3504605" y="772070"/>
                  </a:moveTo>
                  <a:cubicBezTo>
                    <a:pt x="3489910" y="1187902"/>
                    <a:pt x="2708082" y="1521472"/>
                    <a:pt x="1749667" y="1520822"/>
                  </a:cubicBezTo>
                  <a:cubicBezTo>
                    <a:pt x="782047" y="1520166"/>
                    <a:pt x="-1220" y="1179326"/>
                    <a:pt x="0" y="759452"/>
                  </a:cubicBezTo>
                  <a:lnTo>
                    <a:pt x="1752406" y="760412"/>
                  </a:lnTo>
                  <a:lnTo>
                    <a:pt x="3504605" y="772070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Oval 38"/>
            <p:cNvSpPr/>
            <p:nvPr/>
          </p:nvSpPr>
          <p:spPr>
            <a:xfrm>
              <a:off x="2344680" y="141480"/>
              <a:ext cx="1023840" cy="95256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Arc 39"/>
            <p:cNvSpPr/>
            <p:nvPr/>
          </p:nvSpPr>
          <p:spPr>
            <a:xfrm rot="12470400">
              <a:off x="1177560" y="-177480"/>
              <a:ext cx="1133280" cy="831600"/>
            </a:xfrm>
            <a:custGeom>
              <a:avLst/>
              <a:gdLst/>
              <a:ahLst/>
              <a:rect l="l" t="t" r="r" b="b"/>
              <a:pathLst>
                <a:path stroke="0" w="1133349" h="831849">
                  <a:moveTo>
                    <a:pt x="4015" y="366498"/>
                  </a:moveTo>
                  <a:cubicBezTo>
                    <a:pt x="37923" y="158552"/>
                    <a:pt x="277195" y="1544"/>
                    <a:pt x="562525" y="11"/>
                  </a:cubicBezTo>
                  <a:cubicBezTo>
                    <a:pt x="845199" y="-1508"/>
                    <a:pt x="1086166" y="150110"/>
                    <a:pt x="1127314" y="355382"/>
                  </a:cubicBezTo>
                  <a:lnTo>
                    <a:pt x="566675" y="415925"/>
                  </a:lnTo>
                  <a:lnTo>
                    <a:pt x="4015" y="366498"/>
                  </a:lnTo>
                  <a:close/>
                </a:path>
                <a:path fill="none" w="1133349" h="831849">
                  <a:moveTo>
                    <a:pt x="4015" y="366498"/>
                  </a:moveTo>
                  <a:cubicBezTo>
                    <a:pt x="37923" y="158552"/>
                    <a:pt x="277195" y="1544"/>
                    <a:pt x="562525" y="11"/>
                  </a:cubicBezTo>
                  <a:cubicBezTo>
                    <a:pt x="845199" y="-1508"/>
                    <a:pt x="1086166" y="150110"/>
                    <a:pt x="1127314" y="355382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Pie 40"/>
            <p:cNvSpPr/>
            <p:nvPr/>
          </p:nvSpPr>
          <p:spPr>
            <a:xfrm rot="60000">
              <a:off x="786960" y="-197640"/>
              <a:ext cx="380880" cy="380880"/>
            </a:xfrm>
            <a:custGeom>
              <a:avLst/>
              <a:gdLst/>
              <a:ahLst/>
              <a:rect l="l" t="t" r="r" b="b"/>
              <a:pathLst>
                <a:path w="380958" h="381000">
                  <a:moveTo>
                    <a:pt x="380958" y="190416"/>
                  </a:moveTo>
                  <a:cubicBezTo>
                    <a:pt x="381004" y="293854"/>
                    <a:pt x="298508" y="378428"/>
                    <a:pt x="195112" y="380944"/>
                  </a:cubicBezTo>
                  <a:cubicBezTo>
                    <a:pt x="91715" y="383460"/>
                    <a:pt x="5204" y="302997"/>
                    <a:pt x="221" y="199679"/>
                  </a:cubicBezTo>
                  <a:lnTo>
                    <a:pt x="190479" y="190500"/>
                  </a:lnTo>
                  <a:lnTo>
                    <a:pt x="380958" y="190416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Arc 41"/>
            <p:cNvSpPr/>
            <p:nvPr/>
          </p:nvSpPr>
          <p:spPr>
            <a:xfrm rot="6387000">
              <a:off x="4862160" y="-838800"/>
              <a:ext cx="1452600" cy="1671480"/>
            </a:xfrm>
            <a:custGeom>
              <a:avLst/>
              <a:gdLst/>
              <a:ahLst/>
              <a:rect l="l" t="t" r="r" b="b"/>
              <a:pathLst>
                <a:path stroke="0" w="1452561" h="1671452">
                  <a:moveTo>
                    <a:pt x="492890" y="44327"/>
                  </a:moveTo>
                  <a:cubicBezTo>
                    <a:pt x="765979" y="-62311"/>
                    <a:pt x="1068027" y="27076"/>
                    <a:pt x="1262522" y="272089"/>
                  </a:cubicBezTo>
                  <a:cubicBezTo>
                    <a:pt x="1420111" y="470609"/>
                    <a:pt x="1485070" y="744251"/>
                    <a:pt x="1437074" y="1007392"/>
                  </a:cubicBezTo>
                  <a:cubicBezTo>
                    <a:pt x="1384318" y="1296629"/>
                    <a:pt x="1202728" y="1532297"/>
                    <a:pt x="959493" y="1627196"/>
                  </a:cubicBezTo>
                  <a:lnTo>
                    <a:pt x="726281" y="835726"/>
                  </a:lnTo>
                  <a:lnTo>
                    <a:pt x="492890" y="44327"/>
                  </a:lnTo>
                  <a:close/>
                </a:path>
                <a:path fill="none" w="1452561" h="1671452">
                  <a:moveTo>
                    <a:pt x="492890" y="44327"/>
                  </a:moveTo>
                  <a:cubicBezTo>
                    <a:pt x="765979" y="-62311"/>
                    <a:pt x="1068027" y="27076"/>
                    <a:pt x="1262522" y="272089"/>
                  </a:cubicBezTo>
                  <a:cubicBezTo>
                    <a:pt x="1420111" y="470609"/>
                    <a:pt x="1485070" y="744251"/>
                    <a:pt x="1437074" y="1007392"/>
                  </a:cubicBezTo>
                  <a:cubicBezTo>
                    <a:pt x="1384318" y="1296629"/>
                    <a:pt x="1202728" y="1532297"/>
                    <a:pt x="959493" y="1627196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6" name="Oval 42"/>
            <p:cNvSpPr/>
            <p:nvPr/>
          </p:nvSpPr>
          <p:spPr>
            <a:xfrm>
              <a:off x="5362560" y="461880"/>
              <a:ext cx="757080" cy="6429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7" name="Oval 43"/>
            <p:cNvSpPr/>
            <p:nvPr/>
          </p:nvSpPr>
          <p:spPr>
            <a:xfrm>
              <a:off x="4800600" y="152280"/>
              <a:ext cx="757080" cy="6444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8" name="Arc 44"/>
            <p:cNvSpPr/>
            <p:nvPr/>
          </p:nvSpPr>
          <p:spPr>
            <a:xfrm rot="6387000">
              <a:off x="3395520" y="-1039680"/>
              <a:ext cx="1906560" cy="2046240"/>
            </a:xfrm>
            <a:custGeom>
              <a:avLst/>
              <a:gdLst/>
              <a:ahLst/>
              <a:rect l="l" t="t" r="r" b="b"/>
              <a:pathLst>
                <a:path stroke="0" w="1906585" h="2046060">
                  <a:moveTo>
                    <a:pt x="673803" y="44956"/>
                  </a:moveTo>
                  <a:cubicBezTo>
                    <a:pt x="1186853" y="-123885"/>
                    <a:pt x="1728613" y="194809"/>
                    <a:pt x="1871950" y="749773"/>
                  </a:cubicBezTo>
                  <a:cubicBezTo>
                    <a:pt x="2007629" y="1275088"/>
                    <a:pt x="1735648" y="1822304"/>
                    <a:pt x="1253539" y="1993994"/>
                  </a:cubicBezTo>
                  <a:lnTo>
                    <a:pt x="953293" y="1023030"/>
                  </a:lnTo>
                  <a:lnTo>
                    <a:pt x="673803" y="44956"/>
                  </a:lnTo>
                  <a:close/>
                </a:path>
                <a:path fill="none" w="1906585" h="2046060">
                  <a:moveTo>
                    <a:pt x="673803" y="44956"/>
                  </a:moveTo>
                  <a:cubicBezTo>
                    <a:pt x="1186853" y="-123885"/>
                    <a:pt x="1728613" y="194809"/>
                    <a:pt x="1871950" y="749773"/>
                  </a:cubicBezTo>
                  <a:cubicBezTo>
                    <a:pt x="2007629" y="1275088"/>
                    <a:pt x="1735648" y="1822304"/>
                    <a:pt x="1253539" y="1993994"/>
                  </a:cubicBezTo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9" name="Oval 45"/>
            <p:cNvSpPr/>
            <p:nvPr/>
          </p:nvSpPr>
          <p:spPr>
            <a:xfrm>
              <a:off x="6115320" y="590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0" name="Oval 46"/>
            <p:cNvSpPr/>
            <p:nvPr/>
          </p:nvSpPr>
          <p:spPr>
            <a:xfrm>
              <a:off x="6191280" y="486000"/>
              <a:ext cx="104760" cy="1047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11" name="Freeform 47"/>
          <p:cNvSpPr/>
          <p:nvPr/>
        </p:nvSpPr>
        <p:spPr>
          <a:xfrm rot="15660000">
            <a:off x="5752080" y="67320"/>
            <a:ext cx="968400" cy="6031080"/>
          </a:xfrm>
          <a:custGeom>
            <a:avLst/>
            <a:gdLst/>
            <a:ahLst/>
            <a:rect l="l" t="t" r="r" b="b"/>
            <a:pathLst>
              <a:path w="962833" h="6320186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70354" y="4525828"/>
                  <a:pt x="962833" y="6320186"/>
                </a:cubicBezTo>
              </a:path>
            </a:pathLst>
          </a:custGeom>
          <a:solidFill>
            <a:srgbClr val="c0e4f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2" name="Freeform 48"/>
          <p:cNvSpPr/>
          <p:nvPr/>
        </p:nvSpPr>
        <p:spPr>
          <a:xfrm rot="15669000">
            <a:off x="4038480" y="-17280"/>
            <a:ext cx="1789200" cy="8821800"/>
          </a:xfrm>
          <a:custGeom>
            <a:avLst/>
            <a:gdLst/>
            <a:ahLst/>
            <a:rect l="l" t="t" r="r" b="b"/>
            <a:pathLst>
              <a:path w="2209695" h="9154402">
                <a:moveTo>
                  <a:pt x="70836" y="8848823"/>
                </a:moveTo>
                <a:lnTo>
                  <a:pt x="0" y="1104848"/>
                </a:lnTo>
                <a:cubicBezTo>
                  <a:pt x="0" y="811824"/>
                  <a:pt x="116404" y="530802"/>
                  <a:pt x="323604" y="323603"/>
                </a:cubicBezTo>
                <a:cubicBezTo>
                  <a:pt x="530804" y="116404"/>
                  <a:pt x="811826" y="1"/>
                  <a:pt x="1104850" y="2"/>
                </a:cubicBezTo>
                <a:lnTo>
                  <a:pt x="1104848" y="0"/>
                </a:lnTo>
                <a:lnTo>
                  <a:pt x="1104848" y="0"/>
                </a:lnTo>
                <a:cubicBezTo>
                  <a:pt x="1397872" y="0"/>
                  <a:pt x="1678894" y="116404"/>
                  <a:pt x="1886093" y="323604"/>
                </a:cubicBezTo>
                <a:cubicBezTo>
                  <a:pt x="2093292" y="530804"/>
                  <a:pt x="2209695" y="811826"/>
                  <a:pt x="2209694" y="1104850"/>
                </a:cubicBezTo>
                <a:cubicBezTo>
                  <a:pt x="2209694" y="3788034"/>
                  <a:pt x="2209695" y="6471218"/>
                  <a:pt x="2209695" y="9154402"/>
                </a:cubicBezTo>
                <a:lnTo>
                  <a:pt x="2209695" y="9154402"/>
                </a:lnTo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Freeform 49"/>
          <p:cNvSpPr/>
          <p:nvPr/>
        </p:nvSpPr>
        <p:spPr>
          <a:xfrm rot="15660000">
            <a:off x="6128640" y="621720"/>
            <a:ext cx="931680" cy="5295600"/>
          </a:xfrm>
          <a:custGeom>
            <a:avLst/>
            <a:gdLst/>
            <a:ahLst/>
            <a:rect l="l" t="t" r="r" b="b"/>
            <a:pathLst>
              <a:path w="962833" h="6320186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70354" y="4525828"/>
                  <a:pt x="962833" y="6320186"/>
                </a:cubicBezTo>
              </a:path>
            </a:pathLst>
          </a:custGeom>
          <a:solidFill>
            <a:srgbClr val="1782b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Freeform 50"/>
          <p:cNvSpPr/>
          <p:nvPr/>
        </p:nvSpPr>
        <p:spPr>
          <a:xfrm rot="15660000">
            <a:off x="5624280" y="77400"/>
            <a:ext cx="961920" cy="6321600"/>
          </a:xfrm>
          <a:custGeom>
            <a:avLst/>
            <a:gdLst/>
            <a:ahLst/>
            <a:rect l="l" t="t" r="r" b="b"/>
            <a:pathLst>
              <a:path w="962833" h="6320186">
                <a:moveTo>
                  <a:pt x="0" y="6172200"/>
                </a:moveTo>
                <a:lnTo>
                  <a:pt x="0" y="6172200"/>
                </a:lnTo>
                <a:lnTo>
                  <a:pt x="0" y="6172200"/>
                </a:lnTo>
                <a:lnTo>
                  <a:pt x="0" y="457200"/>
                </a:lnTo>
                <a:cubicBezTo>
                  <a:pt x="0" y="335943"/>
                  <a:pt x="48169" y="219652"/>
                  <a:pt x="133911" y="133911"/>
                </a:cubicBezTo>
                <a:cubicBezTo>
                  <a:pt x="219653" y="48169"/>
                  <a:pt x="335944" y="0"/>
                  <a:pt x="457201" y="1"/>
                </a:cubicBezTo>
                <a:lnTo>
                  <a:pt x="457200" y="0"/>
                </a:lnTo>
                <a:lnTo>
                  <a:pt x="457200" y="0"/>
                </a:lnTo>
                <a:cubicBezTo>
                  <a:pt x="578457" y="0"/>
                  <a:pt x="694748" y="48169"/>
                  <a:pt x="780489" y="133911"/>
                </a:cubicBezTo>
                <a:cubicBezTo>
                  <a:pt x="866231" y="219653"/>
                  <a:pt x="914400" y="335944"/>
                  <a:pt x="914399" y="457201"/>
                </a:cubicBezTo>
                <a:cubicBezTo>
                  <a:pt x="943191" y="1489568"/>
                  <a:pt x="870354" y="4525828"/>
                  <a:pt x="962833" y="6320186"/>
                </a:cubicBezTo>
              </a:path>
            </a:pathLst>
          </a:custGeom>
          <a:solidFill>
            <a:srgbClr val="073779">
              <a:alpha val="50000"/>
            </a:srgbClr>
          </a:solidFill>
          <a:ln w="25560">
            <a:solidFill>
              <a:srgbClr val="8fd9fb">
                <a:alpha val="5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5" name="Freeform 51"/>
          <p:cNvSpPr/>
          <p:nvPr/>
        </p:nvSpPr>
        <p:spPr>
          <a:xfrm rot="15660000">
            <a:off x="6395040" y="411840"/>
            <a:ext cx="552240" cy="5103720"/>
          </a:xfrm>
          <a:custGeom>
            <a:avLst/>
            <a:gdLst/>
            <a:ahLst/>
            <a:rect l="l" t="t" r="r" b="b"/>
            <a:pathLst>
              <a:path w="552099" h="5109912">
                <a:moveTo>
                  <a:pt x="0" y="5016061"/>
                </a:moveTo>
                <a:lnTo>
                  <a:pt x="0" y="5016061"/>
                </a:lnTo>
                <a:lnTo>
                  <a:pt x="0" y="251460"/>
                </a:lnTo>
                <a:cubicBezTo>
                  <a:pt x="0" y="184769"/>
                  <a:pt x="26493" y="120809"/>
                  <a:pt x="73651" y="73651"/>
                </a:cubicBezTo>
                <a:cubicBezTo>
                  <a:pt x="120809" y="26493"/>
                  <a:pt x="184769" y="0"/>
                  <a:pt x="251460" y="0"/>
                </a:cubicBezTo>
                <a:lnTo>
                  <a:pt x="251460" y="0"/>
                </a:lnTo>
                <a:cubicBezTo>
                  <a:pt x="318151" y="0"/>
                  <a:pt x="382111" y="26493"/>
                  <a:pt x="429269" y="73651"/>
                </a:cubicBezTo>
                <a:cubicBezTo>
                  <a:pt x="476427" y="120809"/>
                  <a:pt x="502920" y="184769"/>
                  <a:pt x="502920" y="251460"/>
                </a:cubicBezTo>
                <a:cubicBezTo>
                  <a:pt x="528237" y="1864408"/>
                  <a:pt x="536054" y="5039297"/>
                  <a:pt x="552099" y="5109912"/>
                </a:cubicBezTo>
              </a:path>
            </a:pathLst>
          </a:custGeom>
          <a:solidFill>
            <a:srgbClr val="073779">
              <a:alpha val="30000"/>
            </a:srgbClr>
          </a:solidFill>
          <a:ln w="5724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6" name="Freeform 52"/>
          <p:cNvSpPr/>
          <p:nvPr/>
        </p:nvSpPr>
        <p:spPr>
          <a:xfrm rot="15660000">
            <a:off x="7468920" y="1865160"/>
            <a:ext cx="528480" cy="2947680"/>
          </a:xfrm>
          <a:custGeom>
            <a:avLst/>
            <a:gdLst/>
            <a:ahLst/>
            <a:rect l="l" t="t" r="r" b="b"/>
            <a:pathLst>
              <a:path w="528237" h="2951509">
                <a:moveTo>
                  <a:pt x="328" y="2862849"/>
                </a:moveTo>
                <a:cubicBezTo>
                  <a:pt x="219" y="1992386"/>
                  <a:pt x="109" y="1121923"/>
                  <a:pt x="0" y="251460"/>
                </a:cubicBezTo>
                <a:cubicBezTo>
                  <a:pt x="0" y="184769"/>
                  <a:pt x="26493" y="120809"/>
                  <a:pt x="73651" y="73651"/>
                </a:cubicBezTo>
                <a:cubicBezTo>
                  <a:pt x="120809" y="26493"/>
                  <a:pt x="184769" y="0"/>
                  <a:pt x="251460" y="0"/>
                </a:cubicBezTo>
                <a:lnTo>
                  <a:pt x="251460" y="0"/>
                </a:lnTo>
                <a:cubicBezTo>
                  <a:pt x="318151" y="0"/>
                  <a:pt x="382111" y="26493"/>
                  <a:pt x="429269" y="73651"/>
                </a:cubicBezTo>
                <a:cubicBezTo>
                  <a:pt x="476427" y="120809"/>
                  <a:pt x="502920" y="184769"/>
                  <a:pt x="502920" y="251460"/>
                </a:cubicBezTo>
                <a:cubicBezTo>
                  <a:pt x="528237" y="1864408"/>
                  <a:pt x="505702" y="918020"/>
                  <a:pt x="524305" y="2951509"/>
                </a:cubicBezTo>
              </a:path>
            </a:pathLst>
          </a:custGeom>
          <a:solidFill>
            <a:srgbClr val="073779"/>
          </a:solidFill>
          <a:ln w="5724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7" name="Rectangle 5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31" descr="SectionHeader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Freeform 32"/>
          <p:cNvSpPr/>
          <p:nvPr/>
        </p:nvSpPr>
        <p:spPr>
          <a:xfrm rot="4810200">
            <a:off x="3407760" y="1817640"/>
            <a:ext cx="1100160" cy="8103960"/>
          </a:xfrm>
          <a:custGeom>
            <a:avLst/>
            <a:gdLst/>
            <a:ahLst/>
            <a:rect l="l" t="t" r="r" b="b"/>
            <a:pathLst>
              <a:path w="1100209" h="8104720">
                <a:moveTo>
                  <a:pt x="533400" y="0"/>
                </a:moveTo>
                <a:lnTo>
                  <a:pt x="533400" y="0"/>
                </a:lnTo>
                <a:cubicBezTo>
                  <a:pt x="674867" y="0"/>
                  <a:pt x="810539" y="56198"/>
                  <a:pt x="910571" y="156230"/>
                </a:cubicBezTo>
                <a:cubicBezTo>
                  <a:pt x="1010603" y="256262"/>
                  <a:pt x="1055019" y="390601"/>
                  <a:pt x="1066800" y="533401"/>
                </a:cubicBezTo>
                <a:cubicBezTo>
                  <a:pt x="1066437" y="2679490"/>
                  <a:pt x="1093715" y="6711917"/>
                  <a:pt x="1100209" y="6755640"/>
                </a:cubicBezTo>
                <a:lnTo>
                  <a:pt x="848624" y="8104720"/>
                </a:lnTo>
                <a:lnTo>
                  <a:pt x="17782" y="7974865"/>
                </a:lnTo>
                <a:cubicBezTo>
                  <a:pt x="11855" y="5494377"/>
                  <a:pt x="5927" y="3013888"/>
                  <a:pt x="0" y="533400"/>
                </a:cubicBezTo>
                <a:cubicBezTo>
                  <a:pt x="0" y="391933"/>
                  <a:pt x="56198" y="256261"/>
                  <a:pt x="156230" y="156229"/>
                </a:cubicBezTo>
                <a:cubicBezTo>
                  <a:pt x="256262" y="56197"/>
                  <a:pt x="391935" y="0"/>
                  <a:pt x="533401" y="0"/>
                </a:cubicBezTo>
                <a:lnTo>
                  <a:pt x="533400" y="0"/>
                </a:lnTo>
                <a:close/>
              </a:path>
            </a:pathLst>
          </a:custGeom>
          <a:solidFill>
            <a:srgbClr val="073779">
              <a:alpha val="30000"/>
            </a:srgbClr>
          </a:solidFill>
          <a:ln w="3168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8" name="Freeform 33"/>
          <p:cNvSpPr/>
          <p:nvPr/>
        </p:nvSpPr>
        <p:spPr>
          <a:xfrm flipH="1" flipV="1" rot="15600000">
            <a:off x="3393000" y="-446400"/>
            <a:ext cx="2008440" cy="9264960"/>
          </a:xfrm>
          <a:custGeom>
            <a:avLst/>
            <a:gdLst/>
            <a:ahLst/>
            <a:rect l="l" t="t" r="r" b="b"/>
            <a:pathLst>
              <a:path w="2209695" h="9154402">
                <a:moveTo>
                  <a:pt x="93577" y="8811781"/>
                </a:moveTo>
                <a:lnTo>
                  <a:pt x="0" y="1104848"/>
                </a:lnTo>
                <a:cubicBezTo>
                  <a:pt x="0" y="811824"/>
                  <a:pt x="116404" y="530802"/>
                  <a:pt x="323604" y="323603"/>
                </a:cubicBezTo>
                <a:cubicBezTo>
                  <a:pt x="530804" y="116404"/>
                  <a:pt x="811826" y="1"/>
                  <a:pt x="1104850" y="2"/>
                </a:cubicBezTo>
                <a:lnTo>
                  <a:pt x="1104848" y="0"/>
                </a:lnTo>
                <a:lnTo>
                  <a:pt x="1104848" y="0"/>
                </a:lnTo>
                <a:cubicBezTo>
                  <a:pt x="1397872" y="0"/>
                  <a:pt x="1678894" y="116404"/>
                  <a:pt x="1886093" y="323604"/>
                </a:cubicBezTo>
                <a:cubicBezTo>
                  <a:pt x="2093292" y="530804"/>
                  <a:pt x="2209695" y="811826"/>
                  <a:pt x="2209694" y="1104850"/>
                </a:cubicBezTo>
                <a:cubicBezTo>
                  <a:pt x="2209694" y="3788034"/>
                  <a:pt x="2209695" y="6471218"/>
                  <a:pt x="2209695" y="9154402"/>
                </a:cubicBezTo>
                <a:lnTo>
                  <a:pt x="2209695" y="9154402"/>
                </a:lnTo>
              </a:path>
            </a:pathLst>
          </a:custGeom>
          <a:solidFill>
            <a:srgbClr val="073779">
              <a:alpha val="80000"/>
            </a:srgbClr>
          </a:solidFill>
          <a:ln w="25560">
            <a:solidFill>
              <a:srgbClr val="8fd9fb">
                <a:alpha val="6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grpSp>
        <p:nvGrpSpPr>
          <p:cNvPr id="259" name="Group 34"/>
          <p:cNvGrpSpPr/>
          <p:nvPr/>
        </p:nvGrpSpPr>
        <p:grpSpPr>
          <a:xfrm>
            <a:off x="2741400" y="-1206000"/>
            <a:ext cx="4668840" cy="2958480"/>
            <a:chOff x="2741400" y="-1206000"/>
            <a:chExt cx="4668840" cy="2958480"/>
          </a:xfrm>
        </p:grpSpPr>
        <p:sp>
          <p:nvSpPr>
            <p:cNvPr id="260" name="Oval 35"/>
            <p:cNvSpPr/>
            <p:nvPr/>
          </p:nvSpPr>
          <p:spPr>
            <a:xfrm>
              <a:off x="4495680" y="1143000"/>
              <a:ext cx="609480" cy="60948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grpSp>
          <p:nvGrpSpPr>
            <p:cNvPr id="261" name="Group 36"/>
            <p:cNvGrpSpPr/>
            <p:nvPr/>
          </p:nvGrpSpPr>
          <p:grpSpPr>
            <a:xfrm>
              <a:off x="2741400" y="-932040"/>
              <a:ext cx="2014560" cy="1892160"/>
              <a:chOff x="2741400" y="-932040"/>
              <a:chExt cx="2014560" cy="1892160"/>
            </a:xfrm>
          </p:grpSpPr>
          <p:sp>
            <p:nvSpPr>
              <p:cNvPr id="262" name="Arc 44"/>
              <p:cNvSpPr/>
              <p:nvPr/>
            </p:nvSpPr>
            <p:spPr>
              <a:xfrm flipH="1" rot="15213000">
                <a:off x="3022560" y="-834840"/>
                <a:ext cx="1452240" cy="1671840"/>
              </a:xfrm>
              <a:custGeom>
                <a:avLst/>
                <a:gdLst/>
                <a:ahLst/>
                <a:rect l="l" t="t" r="r" b="b"/>
                <a:pathLst>
                  <a:path stroke="0" w="1452860" h="1671082">
                    <a:moveTo>
                      <a:pt x="485387" y="47339"/>
                    </a:moveTo>
                    <a:cubicBezTo>
                      <a:pt x="759333" y="-63495"/>
                      <a:pt x="1064346" y="23980"/>
                      <a:pt x="1260984" y="269772"/>
                    </a:cubicBezTo>
                    <a:cubicBezTo>
                      <a:pt x="1420359" y="468986"/>
                      <a:pt x="1485941" y="744670"/>
                      <a:pt x="1436949" y="1009462"/>
                    </a:cubicBezTo>
                    <a:cubicBezTo>
                      <a:pt x="1383038" y="1300836"/>
                      <a:pt x="1198329" y="1537157"/>
                      <a:pt x="952153" y="1629722"/>
                    </a:cubicBezTo>
                    <a:lnTo>
                      <a:pt x="726430" y="835541"/>
                    </a:lnTo>
                    <a:lnTo>
                      <a:pt x="485387" y="47339"/>
                    </a:lnTo>
                    <a:close/>
                  </a:path>
                  <a:path fill="none" w="1452860" h="1671082">
                    <a:moveTo>
                      <a:pt x="485387" y="47339"/>
                    </a:moveTo>
                    <a:cubicBezTo>
                      <a:pt x="759333" y="-63495"/>
                      <a:pt x="1064346" y="23980"/>
                      <a:pt x="1260984" y="269772"/>
                    </a:cubicBezTo>
                    <a:cubicBezTo>
                      <a:pt x="1420359" y="468986"/>
                      <a:pt x="1485941" y="744670"/>
                      <a:pt x="1436949" y="1009462"/>
                    </a:cubicBezTo>
                    <a:cubicBezTo>
                      <a:pt x="1383038" y="1300836"/>
                      <a:pt x="1198329" y="1537157"/>
                      <a:pt x="952153" y="162972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3" name="Oval 45"/>
              <p:cNvSpPr/>
              <p:nvPr/>
            </p:nvSpPr>
            <p:spPr>
              <a:xfrm flipH="1">
                <a:off x="3217680" y="317520"/>
                <a:ext cx="757440" cy="642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4" name="Oval 46"/>
              <p:cNvSpPr/>
              <p:nvPr/>
            </p:nvSpPr>
            <p:spPr>
              <a:xfrm flipH="1">
                <a:off x="3781080" y="156960"/>
                <a:ext cx="755640" cy="6444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grpSp>
          <p:nvGrpSpPr>
            <p:cNvPr id="265" name="Group 37"/>
            <p:cNvGrpSpPr/>
            <p:nvPr/>
          </p:nvGrpSpPr>
          <p:grpSpPr>
            <a:xfrm>
              <a:off x="3217680" y="-1206000"/>
              <a:ext cx="4192560" cy="2355840"/>
              <a:chOff x="3217680" y="-1206000"/>
              <a:chExt cx="4192560" cy="2355840"/>
            </a:xfrm>
          </p:grpSpPr>
          <p:sp>
            <p:nvSpPr>
              <p:cNvPr id="266" name="Pie 40"/>
              <p:cNvSpPr/>
              <p:nvPr/>
            </p:nvSpPr>
            <p:spPr>
              <a:xfrm>
                <a:off x="3388320" y="-776160"/>
                <a:ext cx="3198240" cy="1521000"/>
              </a:xfrm>
              <a:custGeom>
                <a:avLst/>
                <a:gdLst/>
                <a:ahLst/>
                <a:rect l="l" t="t" r="r" b="b"/>
                <a:pathLst>
                  <a:path w="3504392" h="1521138">
                    <a:moveTo>
                      <a:pt x="3504186" y="772227"/>
                    </a:moveTo>
                    <a:cubicBezTo>
                      <a:pt x="3489508" y="1187854"/>
                      <a:pt x="2708818" y="1521378"/>
                      <a:pt x="1751186" y="1521138"/>
                    </a:cubicBezTo>
                    <a:cubicBezTo>
                      <a:pt x="790164" y="1520898"/>
                      <a:pt x="8924" y="1184702"/>
                      <a:pt x="74" y="767573"/>
                    </a:cubicBezTo>
                    <a:lnTo>
                      <a:pt x="1752196" y="760569"/>
                    </a:lnTo>
                    <a:lnTo>
                      <a:pt x="3504186" y="772227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Oval 41"/>
              <p:cNvSpPr/>
              <p:nvPr/>
            </p:nvSpPr>
            <p:spPr>
              <a:xfrm>
                <a:off x="4415760" y="130320"/>
                <a:ext cx="933480" cy="95256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8" name="Arc 42"/>
              <p:cNvSpPr/>
              <p:nvPr/>
            </p:nvSpPr>
            <p:spPr>
              <a:xfrm rot="12470400">
                <a:off x="3351600" y="-188280"/>
                <a:ext cx="1033560" cy="830160"/>
              </a:xfrm>
              <a:custGeom>
                <a:avLst/>
                <a:gdLst/>
                <a:ahLst/>
                <a:rect l="l" t="t" r="r" b="b"/>
                <a:pathLst>
                  <a:path stroke="0" w="1132751" h="830433">
                    <a:moveTo>
                      <a:pt x="4023" y="365817"/>
                    </a:moveTo>
                    <a:cubicBezTo>
                      <a:pt x="37949" y="158249"/>
                      <a:pt x="277083" y="1540"/>
                      <a:pt x="562234" y="11"/>
                    </a:cubicBezTo>
                    <a:cubicBezTo>
                      <a:pt x="844720" y="-1504"/>
                      <a:pt x="1085538" y="149818"/>
                      <a:pt x="1126706" y="354707"/>
                    </a:cubicBezTo>
                    <a:lnTo>
                      <a:pt x="566376" y="415217"/>
                    </a:lnTo>
                    <a:lnTo>
                      <a:pt x="4023" y="365817"/>
                    </a:lnTo>
                    <a:close/>
                  </a:path>
                  <a:path fill="none" w="1132751" h="830433">
                    <a:moveTo>
                      <a:pt x="4023" y="365817"/>
                    </a:moveTo>
                    <a:cubicBezTo>
                      <a:pt x="37949" y="158249"/>
                      <a:pt x="277083" y="1540"/>
                      <a:pt x="562234" y="11"/>
                    </a:cubicBezTo>
                    <a:cubicBezTo>
                      <a:pt x="844720" y="-1504"/>
                      <a:pt x="1085538" y="149818"/>
                      <a:pt x="1126706" y="354707"/>
                    </a:cubicBezTo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9" name="Arc 43"/>
              <p:cNvSpPr/>
              <p:nvPr/>
            </p:nvSpPr>
            <p:spPr>
              <a:xfrm rot="6387000">
                <a:off x="5292360" y="-961560"/>
                <a:ext cx="1905120" cy="1867320"/>
              </a:xfrm>
              <a:custGeom>
                <a:avLst/>
                <a:gdLst/>
                <a:ahLst/>
                <a:rect l="l" t="t" r="r" b="b"/>
                <a:pathLst>
                  <a:path stroke="0" w="1905390" h="2046259">
                    <a:moveTo>
                      <a:pt x="673195" y="45021"/>
                    </a:moveTo>
                    <a:cubicBezTo>
                      <a:pt x="1186031" y="-123994"/>
                      <a:pt x="1727633" y="194831"/>
                      <a:pt x="1870823" y="750030"/>
                    </a:cubicBezTo>
                    <a:cubicBezTo>
                      <a:pt x="2006286" y="1275270"/>
                      <a:pt x="1734579" y="1822350"/>
                      <a:pt x="1252948" y="1994118"/>
                    </a:cubicBezTo>
                    <a:lnTo>
                      <a:pt x="952695" y="1023130"/>
                    </a:lnTo>
                    <a:lnTo>
                      <a:pt x="673195" y="45021"/>
                    </a:lnTo>
                    <a:close/>
                  </a:path>
                  <a:path fill="none" w="1905390" h="2046259">
                    <a:moveTo>
                      <a:pt x="673195" y="45021"/>
                    </a:moveTo>
                    <a:cubicBezTo>
                      <a:pt x="1186031" y="-123994"/>
                      <a:pt x="1727633" y="194831"/>
                      <a:pt x="1870823" y="750030"/>
                    </a:cubicBezTo>
                    <a:cubicBezTo>
                      <a:pt x="2006286" y="1275270"/>
                      <a:pt x="1734579" y="1822350"/>
                      <a:pt x="1252948" y="1994118"/>
                    </a:cubicBezTo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70" name="Oval 38"/>
            <p:cNvSpPr/>
            <p:nvPr/>
          </p:nvSpPr>
          <p:spPr>
            <a:xfrm>
              <a:off x="3062160" y="90360"/>
              <a:ext cx="268200" cy="266400"/>
            </a:xfrm>
            <a:prstGeom prst="ellipse">
              <a:avLst/>
            </a:pr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Chord 39"/>
            <p:cNvSpPr/>
            <p:nvPr/>
          </p:nvSpPr>
          <p:spPr>
            <a:xfrm rot="17618400">
              <a:off x="2809080" y="-84600"/>
              <a:ext cx="182520" cy="228600"/>
            </a:xfrm>
            <a:custGeom>
              <a:avLst/>
              <a:gdLst/>
              <a:ahLst/>
              <a:rect l="l" t="t" r="r" b="b"/>
              <a:pathLst>
                <a:path w="182600" h="228524">
                  <a:moveTo>
                    <a:pt x="162627" y="185589"/>
                  </a:moveTo>
                  <a:cubicBezTo>
                    <a:pt x="132224" y="233208"/>
                    <a:pt x="77306" y="242576"/>
                    <a:pt x="37829" y="206878"/>
                  </a:cubicBezTo>
                  <a:cubicBezTo>
                    <a:pt x="8491" y="180349"/>
                    <a:pt x="-5554" y="134635"/>
                    <a:pt x="2024" y="90341"/>
                  </a:cubicBezTo>
                  <a:cubicBezTo>
                    <a:pt x="11038" y="37649"/>
                    <a:pt x="48243" y="1"/>
                    <a:pt x="91301" y="1"/>
                  </a:cubicBezTo>
                  <a:lnTo>
                    <a:pt x="162627" y="1855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72" name="Round Same Side Corner Rectangle 47"/>
          <p:cNvSpPr/>
          <p:nvPr/>
        </p:nvSpPr>
        <p:spPr>
          <a:xfrm rot="4733400">
            <a:off x="1459080" y="2141640"/>
            <a:ext cx="809640" cy="2606400"/>
          </a:xfrm>
          <a:custGeom>
            <a:avLst/>
            <a:gdLst/>
            <a:ahLst/>
            <a:rect l="l" t="t" r="r" b="b"/>
            <a:pathLst>
              <a:path w="809625" h="2606675">
                <a:moveTo>
                  <a:pt x="404813" y="0"/>
                </a:moveTo>
                <a:lnTo>
                  <a:pt x="404813" y="0"/>
                </a:lnTo>
                <a:cubicBezTo>
                  <a:pt x="628385" y="0"/>
                  <a:pt x="809626" y="181241"/>
                  <a:pt x="809626" y="404813"/>
                </a:cubicBezTo>
                <a:cubicBezTo>
                  <a:pt x="809626" y="1138767"/>
                  <a:pt x="809625" y="1872721"/>
                  <a:pt x="809625" y="2606675"/>
                </a:cubicBezTo>
                <a:lnTo>
                  <a:pt x="809625" y="2606675"/>
                </a:lnTo>
                <a:lnTo>
                  <a:pt x="0" y="2606675"/>
                </a:lnTo>
                <a:lnTo>
                  <a:pt x="0" y="2606675"/>
                </a:lnTo>
                <a:lnTo>
                  <a:pt x="0" y="404813"/>
                </a:lnTo>
                <a:cubicBezTo>
                  <a:pt x="0" y="181241"/>
                  <a:pt x="181241" y="0"/>
                  <a:pt x="404813" y="0"/>
                </a:cubicBezTo>
                <a:close/>
              </a:path>
            </a:pathLst>
          </a:custGeom>
          <a:solidFill>
            <a:srgbClr val="073779">
              <a:alpha val="65000"/>
            </a:srgbClr>
          </a:solidFill>
          <a:ln w="25560">
            <a:solidFill>
              <a:srgbClr val="8fd9fb">
                <a:alpha val="6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3" name="Freeform 48"/>
          <p:cNvSpPr/>
          <p:nvPr/>
        </p:nvSpPr>
        <p:spPr>
          <a:xfrm rot="4733400">
            <a:off x="813600" y="2201760"/>
            <a:ext cx="700200" cy="2513160"/>
          </a:xfrm>
          <a:custGeom>
            <a:avLst/>
            <a:gdLst/>
            <a:ahLst/>
            <a:rect l="l" t="t" r="r" b="b"/>
            <a:pathLst>
              <a:path w="778667" h="2512599">
                <a:moveTo>
                  <a:pt x="0" y="2357093"/>
                </a:moveTo>
                <a:lnTo>
                  <a:pt x="19377" y="370199"/>
                </a:lnTo>
                <a:cubicBezTo>
                  <a:pt x="19377" y="272016"/>
                  <a:pt x="58380" y="177855"/>
                  <a:pt x="127806" y="108429"/>
                </a:cubicBezTo>
                <a:cubicBezTo>
                  <a:pt x="197232" y="39003"/>
                  <a:pt x="291394" y="0"/>
                  <a:pt x="389576" y="1"/>
                </a:cubicBezTo>
                <a:lnTo>
                  <a:pt x="389576" y="0"/>
                </a:lnTo>
                <a:lnTo>
                  <a:pt x="389576" y="0"/>
                </a:lnTo>
                <a:cubicBezTo>
                  <a:pt x="487759" y="0"/>
                  <a:pt x="581920" y="39003"/>
                  <a:pt x="651346" y="108429"/>
                </a:cubicBezTo>
                <a:cubicBezTo>
                  <a:pt x="720772" y="177855"/>
                  <a:pt x="759775" y="272017"/>
                  <a:pt x="759774" y="370199"/>
                </a:cubicBezTo>
                <a:cubicBezTo>
                  <a:pt x="778667" y="770894"/>
                  <a:pt x="763675" y="2066266"/>
                  <a:pt x="764702" y="2512599"/>
                </a:cubicBezTo>
              </a:path>
            </a:pathLst>
          </a:custGeom>
          <a:solidFill>
            <a:srgbClr val="073779"/>
          </a:solidFill>
          <a:ln w="12708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4" name="Freeform 49"/>
          <p:cNvSpPr/>
          <p:nvPr/>
        </p:nvSpPr>
        <p:spPr>
          <a:xfrm rot="4733400">
            <a:off x="390600" y="3357360"/>
            <a:ext cx="379080" cy="1208160"/>
          </a:xfrm>
          <a:custGeom>
            <a:avLst/>
            <a:gdLst/>
            <a:ahLst/>
            <a:rect l="l" t="t" r="r" b="b"/>
            <a:pathLst>
              <a:path w="459179" h="1462129">
                <a:moveTo>
                  <a:pt x="0" y="1379079"/>
                </a:moveTo>
                <a:lnTo>
                  <a:pt x="597" y="229291"/>
                </a:lnTo>
                <a:cubicBezTo>
                  <a:pt x="597" y="168479"/>
                  <a:pt x="24755" y="110158"/>
                  <a:pt x="67755" y="67158"/>
                </a:cubicBezTo>
                <a:cubicBezTo>
                  <a:pt x="110755" y="24158"/>
                  <a:pt x="169077" y="0"/>
                  <a:pt x="229888" y="0"/>
                </a:cubicBezTo>
                <a:lnTo>
                  <a:pt x="229888" y="0"/>
                </a:lnTo>
                <a:cubicBezTo>
                  <a:pt x="290700" y="0"/>
                  <a:pt x="349021" y="24158"/>
                  <a:pt x="392021" y="67158"/>
                </a:cubicBezTo>
                <a:cubicBezTo>
                  <a:pt x="435021" y="110158"/>
                  <a:pt x="459179" y="168480"/>
                  <a:pt x="459179" y="229291"/>
                </a:cubicBezTo>
                <a:lnTo>
                  <a:pt x="448070" y="1462129"/>
                </a:lnTo>
              </a:path>
            </a:pathLst>
          </a:custGeom>
          <a:solidFill>
            <a:srgbClr val="073779"/>
          </a:solidFill>
          <a:ln w="63360">
            <a:solidFill>
              <a:srgbClr val="8fd9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5" name="Rectangle 5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316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17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18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19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0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1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2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3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4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5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6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7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8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29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30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31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32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33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34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35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36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337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38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9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dt" idx="7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 type="ftr" idx="8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 type="sldNum" idx="9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DC2B1-D01E-46D2-BC70-190349999B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82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383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384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85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86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87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88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89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0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1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2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3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4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5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6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7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8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399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00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01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02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03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404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05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6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dt" idx="10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 type="ftr" idx="11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 type="sldNum" idx="12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0CDD5-5DB2-4D95-81EF-8BFFAC492EB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1"/>
    <p:sldLayoutId id="2147483728" r:id="rId12"/>
    <p:sldLayoutId id="2147483729" r:id="rId13"/>
    <p:sldLayoutId id="2147483730" r:id="rId14"/>
    <p:sldLayoutId id="2147483731" r:id="rId15"/>
    <p:sldLayoutId id="2147483732" r:id="rId16"/>
    <p:sldLayoutId id="2147483733" r:id="rId17"/>
    <p:sldLayoutId id="2147483734" r:id="rId18"/>
    <p:sldLayoutId id="2147483735" r:id="rId19"/>
    <p:sldLayoutId id="2147483736" r:id="rId20"/>
    <p:sldLayoutId id="2147483737" r:id="rId21"/>
    <p:sldLayoutId id="2147483738" r:id="rId22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8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49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450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451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52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53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54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55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56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57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58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59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0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1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2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3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4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5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6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7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8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69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470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471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472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3" name="Round Same Side Corner Rectangle 31"/>
          <p:cNvSpPr/>
          <p:nvPr/>
        </p:nvSpPr>
        <p:spPr>
          <a:xfrm rot="16200000">
            <a:off x="3974400" y="-2346840"/>
            <a:ext cx="1450800" cy="8888400"/>
          </a:xfrm>
          <a:custGeom>
            <a:avLst/>
            <a:gdLst/>
            <a:ahLst/>
            <a:rect l="l" t="t" r="r" b="b"/>
            <a:pathLst>
              <a:path w="1450975" h="8888412">
                <a:moveTo>
                  <a:pt x="725488" y="0"/>
                </a:moveTo>
                <a:lnTo>
                  <a:pt x="725488" y="0"/>
                </a:lnTo>
                <a:cubicBezTo>
                  <a:pt x="1126164" y="0"/>
                  <a:pt x="1450976" y="324812"/>
                  <a:pt x="1450976" y="725488"/>
                </a:cubicBezTo>
                <a:cubicBezTo>
                  <a:pt x="1450976" y="3446463"/>
                  <a:pt x="1450975" y="6167437"/>
                  <a:pt x="1450975" y="8888412"/>
                </a:cubicBezTo>
                <a:lnTo>
                  <a:pt x="1450975" y="8888412"/>
                </a:lnTo>
                <a:lnTo>
                  <a:pt x="0" y="8888412"/>
                </a:lnTo>
                <a:lnTo>
                  <a:pt x="0" y="8888412"/>
                </a:lnTo>
                <a:lnTo>
                  <a:pt x="0" y="725488"/>
                </a:lnTo>
                <a:cubicBezTo>
                  <a:pt x="0" y="324812"/>
                  <a:pt x="324812" y="0"/>
                  <a:pt x="725488" y="0"/>
                </a:cubicBezTo>
                <a:close/>
              </a:path>
            </a:pathLst>
          </a:custGeom>
          <a:solidFill>
            <a:srgbClr val="073779">
              <a:alpha val="30000"/>
            </a:srgbClr>
          </a:solidFill>
          <a:ln w="25560">
            <a:solidFill>
              <a:srgbClr val="8fd9fb">
                <a:alpha val="3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 type="dt" idx="13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 type="ftr" idx="14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 type="sldNum" idx="15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65E2E-9C6D-47C6-BEF4-0C0F1127AE5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1"/>
    <p:sldLayoutId id="2147483741" r:id="rId12"/>
    <p:sldLayoutId id="2147483742" r:id="rId13"/>
    <p:sldLayoutId id="2147483743" r:id="rId14"/>
    <p:sldLayoutId id="2147483744" r:id="rId15"/>
    <p:sldLayoutId id="2147483745" r:id="rId16"/>
    <p:sldLayoutId id="2147483746" r:id="rId17"/>
    <p:sldLayoutId id="2147483747" r:id="rId18"/>
    <p:sldLayoutId id="2147483748" r:id="rId19"/>
    <p:sldLayoutId id="2147483749" r:id="rId20"/>
    <p:sldLayoutId id="2147483750" r:id="rId21"/>
    <p:sldLayoutId id="2147483751" r:id="rId22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Picture 6" descr="TextSlideOverlay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516" name="Group 7"/>
          <p:cNvGrpSpPr/>
          <p:nvPr/>
        </p:nvGrpSpPr>
        <p:grpSpPr>
          <a:xfrm>
            <a:off x="-573120" y="-649800"/>
            <a:ext cx="7695360" cy="2026080"/>
            <a:chOff x="-573120" y="-649800"/>
            <a:chExt cx="7695360" cy="2026080"/>
          </a:xfrm>
        </p:grpSpPr>
        <p:grpSp>
          <p:nvGrpSpPr>
            <p:cNvPr id="517" name="Group 32"/>
            <p:cNvGrpSpPr/>
            <p:nvPr/>
          </p:nvGrpSpPr>
          <p:grpSpPr>
            <a:xfrm>
              <a:off x="-263160" y="-649800"/>
              <a:ext cx="7385400" cy="2026080"/>
              <a:chOff x="-263160" y="-649800"/>
              <a:chExt cx="7385400" cy="2026080"/>
            </a:xfrm>
          </p:grpSpPr>
          <p:sp>
            <p:nvSpPr>
              <p:cNvPr id="518" name="Oval 10"/>
              <p:cNvSpPr/>
              <p:nvPr/>
            </p:nvSpPr>
            <p:spPr>
              <a:xfrm rot="4368600">
                <a:off x="2840040" y="-41040"/>
                <a:ext cx="581040" cy="7905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19" name="Oval 11"/>
              <p:cNvSpPr/>
              <p:nvPr/>
            </p:nvSpPr>
            <p:spPr>
              <a:xfrm>
                <a:off x="335160" y="12600"/>
                <a:ext cx="1189080" cy="10130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0" name="Arc 12"/>
              <p:cNvSpPr/>
              <p:nvPr/>
            </p:nvSpPr>
            <p:spPr>
              <a:xfrm rot="6387000">
                <a:off x="5838840" y="-547200"/>
                <a:ext cx="1106640" cy="1195200"/>
              </a:xfrm>
              <a:custGeom>
                <a:avLst/>
                <a:gdLst/>
                <a:ahLst/>
                <a:rect l="l" t="t" r="r" b="b"/>
                <a:pathLst>
                  <a:path stroke="0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  <a:lnTo>
                      <a:pt x="553381" y="597742"/>
                    </a:lnTo>
                    <a:lnTo>
                      <a:pt x="379807" y="30165"/>
                    </a:lnTo>
                    <a:close/>
                  </a:path>
                  <a:path fill="none" w="1106761" h="1195483">
                    <a:moveTo>
                      <a:pt x="379807" y="30165"/>
                    </a:moveTo>
                    <a:cubicBezTo>
                      <a:pt x="580250" y="-41355"/>
                      <a:pt x="800902" y="16533"/>
                      <a:pt x="948642" y="179399"/>
                    </a:cubicBezTo>
                    <a:cubicBezTo>
                      <a:pt x="1080234" y="324463"/>
                      <a:pt x="1134632" y="531776"/>
                      <a:pt x="1093077" y="729849"/>
                    </a:cubicBezTo>
                    <a:cubicBezTo>
                      <a:pt x="1049257" y="938720"/>
                      <a:pt x="905331" y="1106307"/>
                      <a:pt x="715789" y="116916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1" name="Oval 13"/>
              <p:cNvSpPr/>
              <p:nvPr/>
            </p:nvSpPr>
            <p:spPr>
              <a:xfrm>
                <a:off x="5472720" y="63360"/>
                <a:ext cx="609480" cy="49032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2" name="Pie 14"/>
              <p:cNvSpPr/>
              <p:nvPr/>
            </p:nvSpPr>
            <p:spPr>
              <a:xfrm>
                <a:off x="-7560" y="-60660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3" name="Pie 15"/>
              <p:cNvSpPr/>
              <p:nvPr/>
            </p:nvSpPr>
            <p:spPr>
              <a:xfrm>
                <a:off x="1905120" y="-401760"/>
                <a:ext cx="1600200" cy="800280"/>
              </a:xfrm>
              <a:custGeom>
                <a:avLst/>
                <a:gdLst/>
                <a:ahLst/>
                <a:rect l="l" t="t" r="r" b="b"/>
                <a:pathLst>
                  <a:path w="1600327" h="800298">
                    <a:moveTo>
                      <a:pt x="1600327" y="400149"/>
                    </a:moveTo>
                    <a:cubicBezTo>
                      <a:pt x="1600327" y="578396"/>
                      <a:pt x="1364567" y="735151"/>
                      <a:pt x="1022120" y="784595"/>
                    </a:cubicBezTo>
                    <a:cubicBezTo>
                      <a:pt x="877107" y="805533"/>
                      <a:pt x="723210" y="805532"/>
                      <a:pt x="578197" y="784594"/>
                    </a:cubicBezTo>
                    <a:cubicBezTo>
                      <a:pt x="235744" y="735147"/>
                      <a:pt x="-15" y="578385"/>
                      <a:pt x="-1" y="400134"/>
                    </a:cubicBezTo>
                    <a:lnTo>
                      <a:pt x="800164" y="400149"/>
                    </a:lnTo>
                    <a:lnTo>
                      <a:pt x="1600327" y="40014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4" name="Oval 16"/>
              <p:cNvSpPr/>
              <p:nvPr/>
            </p:nvSpPr>
            <p:spPr>
              <a:xfrm>
                <a:off x="2630880" y="762120"/>
                <a:ext cx="417240" cy="41760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5" name="Oval 17"/>
              <p:cNvSpPr/>
              <p:nvPr/>
            </p:nvSpPr>
            <p:spPr>
              <a:xfrm rot="2510400">
                <a:off x="169560" y="163440"/>
                <a:ext cx="779400" cy="982800"/>
              </a:xfrm>
              <a:prstGeom prst="ellipse">
                <a:avLst/>
              </a:prstGeom>
              <a:solidFill>
                <a:srgbClr val="62bce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6" name="Pie 18"/>
              <p:cNvSpPr/>
              <p:nvPr/>
            </p:nvSpPr>
            <p:spPr>
              <a:xfrm rot="16200000">
                <a:off x="-263160" y="842760"/>
                <a:ext cx="533520" cy="533160"/>
              </a:xfrm>
              <a:custGeom>
                <a:avLst/>
                <a:gdLst/>
                <a:ahLst/>
                <a:rect l="l" t="t" r="r" b="b"/>
                <a:pathLst>
                  <a:path w="533532" h="533442">
                    <a:moveTo>
                      <a:pt x="533532" y="266721"/>
                    </a:moveTo>
                    <a:cubicBezTo>
                      <a:pt x="533532" y="413680"/>
                      <a:pt x="414638" y="532951"/>
                      <a:pt x="267655" y="533441"/>
                    </a:cubicBezTo>
                    <a:cubicBezTo>
                      <a:pt x="120672" y="533931"/>
                      <a:pt x="986" y="415455"/>
                      <a:pt x="6" y="268500"/>
                    </a:cubicBezTo>
                    <a:lnTo>
                      <a:pt x="266766" y="266721"/>
                    </a:lnTo>
                    <a:lnTo>
                      <a:pt x="533532" y="266721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7" name="Oval 19"/>
              <p:cNvSpPr/>
              <p:nvPr/>
            </p:nvSpPr>
            <p:spPr>
              <a:xfrm>
                <a:off x="1559160" y="492120"/>
                <a:ext cx="228600" cy="1936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8" name="Pie 20"/>
              <p:cNvSpPr/>
              <p:nvPr/>
            </p:nvSpPr>
            <p:spPr>
              <a:xfrm>
                <a:off x="990720" y="-603360"/>
                <a:ext cx="1385640" cy="1204920"/>
              </a:xfrm>
              <a:custGeom>
                <a:avLst/>
                <a:gdLst/>
                <a:ahLst/>
                <a:rect l="l" t="t" r="r" b="b"/>
                <a:pathLst>
                  <a:path w="1385998" h="1205210">
                    <a:moveTo>
                      <a:pt x="1385998" y="602605"/>
                    </a:moveTo>
                    <a:cubicBezTo>
                      <a:pt x="1385998" y="830502"/>
                      <a:pt x="1238148" y="1038903"/>
                      <a:pt x="1003925" y="1141152"/>
                    </a:cubicBezTo>
                    <a:cubicBezTo>
                      <a:pt x="808273" y="1226564"/>
                      <a:pt x="577713" y="1226562"/>
                      <a:pt x="382062" y="1141147"/>
                    </a:cubicBezTo>
                    <a:cubicBezTo>
                      <a:pt x="147840" y="1038893"/>
                      <a:pt x="-6" y="830489"/>
                      <a:pt x="0" y="602591"/>
                    </a:cubicBezTo>
                    <a:lnTo>
                      <a:pt x="692999" y="602605"/>
                    </a:lnTo>
                    <a:lnTo>
                      <a:pt x="1385998" y="60260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29" name="Pie 21"/>
              <p:cNvSpPr/>
              <p:nvPr/>
            </p:nvSpPr>
            <p:spPr>
              <a:xfrm>
                <a:off x="5182200" y="-342720"/>
                <a:ext cx="1600200" cy="685800"/>
              </a:xfrm>
              <a:custGeom>
                <a:avLst/>
                <a:gdLst/>
                <a:ahLst/>
                <a:rect l="l" t="t" r="r" b="b"/>
                <a:pathLst>
                  <a:path w="1600327" h="685969">
                    <a:moveTo>
                      <a:pt x="1600327" y="342985"/>
                    </a:moveTo>
                    <a:cubicBezTo>
                      <a:pt x="1600327" y="500674"/>
                      <a:pt x="1349490" y="638045"/>
                      <a:pt x="992384" y="675926"/>
                    </a:cubicBezTo>
                    <a:cubicBezTo>
                      <a:pt x="866138" y="689318"/>
                      <a:pt x="734180" y="689318"/>
                      <a:pt x="607934" y="675925"/>
                    </a:cubicBezTo>
                    <a:cubicBezTo>
                      <a:pt x="250819" y="638041"/>
                      <a:pt x="-17" y="500663"/>
                      <a:pt x="-1" y="342969"/>
                    </a:cubicBezTo>
                    <a:lnTo>
                      <a:pt x="800164" y="342985"/>
                    </a:lnTo>
                    <a:lnTo>
                      <a:pt x="1600327" y="34298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30" name="Oval 22"/>
              <p:cNvSpPr/>
              <p:nvPr/>
            </p:nvSpPr>
            <p:spPr>
              <a:xfrm>
                <a:off x="5728320" y="63360"/>
                <a:ext cx="685800" cy="53352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31" name="Pie 23"/>
              <p:cNvSpPr/>
              <p:nvPr/>
            </p:nvSpPr>
            <p:spPr>
              <a:xfrm>
                <a:off x="6136200" y="-257040"/>
                <a:ext cx="838080" cy="527040"/>
              </a:xfrm>
              <a:custGeom>
                <a:avLst/>
                <a:gdLst/>
                <a:ahLst/>
                <a:rect l="l" t="t" r="r" b="b"/>
                <a:pathLst>
                  <a:path w="838267" h="527180">
                    <a:moveTo>
                      <a:pt x="838267" y="263590"/>
                    </a:moveTo>
                    <a:cubicBezTo>
                      <a:pt x="838267" y="374478"/>
                      <a:pt x="727914" y="473509"/>
                      <a:pt x="562177" y="511354"/>
                    </a:cubicBezTo>
                    <a:cubicBezTo>
                      <a:pt x="469764" y="532456"/>
                      <a:pt x="368495" y="532455"/>
                      <a:pt x="276082" y="511353"/>
                    </a:cubicBezTo>
                    <a:cubicBezTo>
                      <a:pt x="110344" y="473506"/>
                      <a:pt x="-7" y="374472"/>
                      <a:pt x="-2" y="263582"/>
                    </a:cubicBezTo>
                    <a:lnTo>
                      <a:pt x="419134" y="263590"/>
                    </a:lnTo>
                    <a:lnTo>
                      <a:pt x="838267" y="263590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32" name="Oval 24"/>
              <p:cNvSpPr/>
              <p:nvPr/>
            </p:nvSpPr>
            <p:spPr>
              <a:xfrm rot="4368600">
                <a:off x="3663720" y="-145800"/>
                <a:ext cx="582480" cy="909360"/>
              </a:xfrm>
              <a:prstGeom prst="ellipse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33" name="Pie 25"/>
              <p:cNvSpPr/>
              <p:nvPr/>
            </p:nvSpPr>
            <p:spPr>
              <a:xfrm>
                <a:off x="4385160" y="-145800"/>
                <a:ext cx="299880" cy="299880"/>
              </a:xfrm>
              <a:custGeom>
                <a:avLst/>
                <a:gdLst/>
                <a:ahLst/>
                <a:rect l="l" t="t" r="r" b="b"/>
                <a:pathLst>
                  <a:path w="300062" h="300112">
                    <a:moveTo>
                      <a:pt x="300062" y="150056"/>
                    </a:moveTo>
                    <a:cubicBezTo>
                      <a:pt x="300062" y="232734"/>
                      <a:pt x="233195" y="299836"/>
                      <a:pt x="150531" y="300111"/>
                    </a:cubicBezTo>
                    <a:cubicBezTo>
                      <a:pt x="67867" y="300387"/>
                      <a:pt x="554" y="233733"/>
                      <a:pt x="3" y="151056"/>
                    </a:cubicBezTo>
                    <a:lnTo>
                      <a:pt x="150031" y="150056"/>
                    </a:lnTo>
                    <a:lnTo>
                      <a:pt x="300062" y="150056"/>
                    </a:lnTo>
                    <a:close/>
                  </a:path>
                </a:pathLst>
              </a:custGeom>
              <a:solidFill>
                <a:srgbClr val="8fd9f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34" name="Pie 26"/>
              <p:cNvSpPr/>
              <p:nvPr/>
            </p:nvSpPr>
            <p:spPr>
              <a:xfrm>
                <a:off x="4756680" y="-118800"/>
                <a:ext cx="182520" cy="228600"/>
              </a:xfrm>
              <a:custGeom>
                <a:avLst/>
                <a:gdLst/>
                <a:ahLst/>
                <a:rect l="l" t="t" r="r" b="b"/>
                <a:pathLst>
                  <a:path w="182578" h="228657">
                    <a:moveTo>
                      <a:pt x="182578" y="114329"/>
                    </a:moveTo>
                    <a:cubicBezTo>
                      <a:pt x="182578" y="177285"/>
                      <a:pt x="141938" y="228394"/>
                      <a:pt x="91670" y="228657"/>
                    </a:cubicBezTo>
                    <a:cubicBezTo>
                      <a:pt x="41294" y="228920"/>
                      <a:pt x="269" y="178028"/>
                      <a:pt x="1" y="114938"/>
                    </a:cubicBezTo>
                    <a:lnTo>
                      <a:pt x="91289" y="114329"/>
                    </a:lnTo>
                    <a:lnTo>
                      <a:pt x="182578" y="114329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35" name="Pie 27"/>
              <p:cNvSpPr/>
              <p:nvPr/>
            </p:nvSpPr>
            <p:spPr>
              <a:xfrm>
                <a:off x="5029560" y="-114120"/>
                <a:ext cx="228600" cy="228600"/>
              </a:xfrm>
              <a:custGeom>
                <a:avLst/>
                <a:gdLst/>
                <a:ahLst/>
                <a:rect l="l" t="t" r="r" b="b"/>
                <a:pathLst>
                  <a:path w="228618" h="228656">
                    <a:moveTo>
                      <a:pt x="228618" y="114328"/>
                    </a:moveTo>
                    <a:cubicBezTo>
                      <a:pt x="228618" y="177321"/>
                      <a:pt x="177672" y="228445"/>
                      <a:pt x="114690" y="228655"/>
                    </a:cubicBezTo>
                    <a:cubicBezTo>
                      <a:pt x="51708" y="228865"/>
                      <a:pt x="422" y="178081"/>
                      <a:pt x="2" y="115090"/>
                    </a:cubicBezTo>
                    <a:lnTo>
                      <a:pt x="114309" y="114328"/>
                    </a:lnTo>
                    <a:lnTo>
                      <a:pt x="228618" y="114328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36" name="Oval 28"/>
              <p:cNvSpPr/>
              <p:nvPr/>
            </p:nvSpPr>
            <p:spPr>
              <a:xfrm>
                <a:off x="2403720" y="0"/>
                <a:ext cx="664920" cy="665280"/>
              </a:xfrm>
              <a:prstGeom prst="ellipse">
                <a:avLst/>
              </a:pr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537" name="Pie 29"/>
              <p:cNvSpPr/>
              <p:nvPr/>
            </p:nvSpPr>
            <p:spPr>
              <a:xfrm>
                <a:off x="3011760" y="-298440"/>
                <a:ext cx="838080" cy="609480"/>
              </a:xfrm>
              <a:custGeom>
                <a:avLst/>
                <a:gdLst/>
                <a:ahLst/>
                <a:rect l="l" t="t" r="r" b="b"/>
                <a:pathLst>
                  <a:path w="838267" h="609750">
                    <a:moveTo>
                      <a:pt x="838267" y="304875"/>
                    </a:moveTo>
                    <a:cubicBezTo>
                      <a:pt x="838267" y="427643"/>
                      <a:pt x="737033" y="538434"/>
                      <a:pt x="581420" y="585969"/>
                    </a:cubicBezTo>
                    <a:cubicBezTo>
                      <a:pt x="477617" y="617678"/>
                      <a:pt x="360641" y="617677"/>
                      <a:pt x="256839" y="585967"/>
                    </a:cubicBezTo>
                    <a:cubicBezTo>
                      <a:pt x="101226" y="538429"/>
                      <a:pt x="-6" y="427636"/>
                      <a:pt x="-2" y="304867"/>
                    </a:cubicBezTo>
                    <a:lnTo>
                      <a:pt x="419134" y="304875"/>
                    </a:lnTo>
                    <a:lnTo>
                      <a:pt x="838267" y="304875"/>
                    </a:lnTo>
                    <a:close/>
                  </a:path>
                </a:pathLst>
              </a:custGeom>
              <a:solidFill>
                <a:srgbClr val="62bce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538" name="Pie 9"/>
            <p:cNvSpPr/>
            <p:nvPr/>
          </p:nvSpPr>
          <p:spPr>
            <a:xfrm rot="16200000">
              <a:off x="-430200" y="-79200"/>
              <a:ext cx="851040" cy="1136520"/>
            </a:xfrm>
            <a:custGeom>
              <a:avLst/>
              <a:gdLst/>
              <a:ahLst/>
              <a:rect l="l" t="t" r="r" b="b"/>
              <a:pathLst>
                <a:path w="851110" h="1136741">
                  <a:moveTo>
                    <a:pt x="851110" y="568371"/>
                  </a:moveTo>
                  <a:cubicBezTo>
                    <a:pt x="851110" y="744599"/>
                    <a:pt x="789905" y="910858"/>
                    <a:pt x="685415" y="1018469"/>
                  </a:cubicBezTo>
                  <a:cubicBezTo>
                    <a:pt x="532290" y="1176169"/>
                    <a:pt x="318809" y="1176166"/>
                    <a:pt x="165687" y="1018462"/>
                  </a:cubicBezTo>
                  <a:cubicBezTo>
                    <a:pt x="61200" y="910848"/>
                    <a:pt x="-2" y="744589"/>
                    <a:pt x="0" y="568363"/>
                  </a:cubicBezTo>
                  <a:lnTo>
                    <a:pt x="425555" y="568371"/>
                  </a:lnTo>
                  <a:lnTo>
                    <a:pt x="851110" y="568371"/>
                  </a:lnTo>
                  <a:close/>
                </a:path>
              </a:pathLst>
            </a:custGeom>
            <a:solidFill>
              <a:srgbClr val="62b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539" name="Rectangle 3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0" name="Rounded Rectangle 31"/>
          <p:cNvSpPr/>
          <p:nvPr/>
        </p:nvSpPr>
        <p:spPr>
          <a:xfrm>
            <a:off x="366840" y="1447920"/>
            <a:ext cx="3747960" cy="4800600"/>
          </a:xfrm>
          <a:custGeom>
            <a:avLst/>
            <a:gdLst>
              <a:gd name="textAreaLeft" fmla="*/ 182880 w 3747960"/>
              <a:gd name="textAreaRight" fmla="*/ 3565080 w 3747960"/>
              <a:gd name="textAreaTop" fmla="*/ 182880 h 4800600"/>
              <a:gd name="textAreaBottom" fmla="*/ 4617720 h 4800600"/>
            </a:gdLst>
            <a:ahLst/>
            <a:rect l="textAreaLeft" t="textAreaTop" r="textAreaRight" b="textAreaBottom"/>
            <a:pathLst>
              <a:path w="21600" h="27666">
                <a:moveTo>
                  <a:pt x="3600" y="0"/>
                </a:moveTo>
                <a:arcTo wR="3600" hR="3600" stAng="16200000" swAng="-5400000"/>
                <a:lnTo>
                  <a:pt x="0" y="24066"/>
                </a:lnTo>
                <a:arcTo wR="3600" hR="3600" stAng="10800000" swAng="-5400000"/>
                <a:lnTo>
                  <a:pt x="18000" y="2766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73779">
              <a:alpha val="60000"/>
            </a:srgbClr>
          </a:solidFill>
          <a:ln w="63360">
            <a:solidFill>
              <a:srgbClr val="8fd9fb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1" marL="505440" indent="-226080">
              <a:spcAft>
                <a:spcPts val="20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2" marL="731520" indent="-226080">
              <a:spcAft>
                <a:spcPts val="20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3" marL="957600" indent="-226080">
              <a:spcAft>
                <a:spcPts val="20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4" marL="1193760" indent="-236160">
              <a:spcAft>
                <a:spcPts val="20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5" marL="1193760" indent="-236160">
              <a:spcAft>
                <a:spcPts val="20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lvl="6" marL="1193760" indent="-236160">
              <a:spcAft>
                <a:spcPts val="20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16"/>
          </p:nvPr>
        </p:nvSpPr>
        <p:spPr>
          <a:xfrm>
            <a:off x="77760" y="299880"/>
            <a:ext cx="2743200" cy="1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ts val="11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17"/>
          </p:nvPr>
        </p:nvSpPr>
        <p:spPr>
          <a:xfrm>
            <a:off x="76320" y="115560"/>
            <a:ext cx="2743200" cy="18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18"/>
          </p:nvPr>
        </p:nvSpPr>
        <p:spPr>
          <a:xfrm>
            <a:off x="75960" y="604800"/>
            <a:ext cx="1385640" cy="23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8A292-AF6E-4713-8CD1-29D8E9C1732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1"/>
    <p:sldLayoutId id="2147483754" r:id="rId12"/>
    <p:sldLayoutId id="2147483755" r:id="rId13"/>
    <p:sldLayoutId id="2147483756" r:id="rId14"/>
    <p:sldLayoutId id="2147483757" r:id="rId15"/>
    <p:sldLayoutId id="2147483758" r:id="rId16"/>
    <p:sldLayoutId id="2147483759" r:id="rId17"/>
    <p:sldLayoutId id="2147483760" r:id="rId18"/>
    <p:sldLayoutId id="2147483761" r:id="rId19"/>
    <p:sldLayoutId id="2147483762" r:id="rId20"/>
    <p:sldLayoutId id="2147483763" r:id="rId21"/>
    <p:sldLayoutId id="2147483764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 rot="21042000">
            <a:off x="1022040" y="2960640"/>
            <a:ext cx="7551720" cy="161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6-2 2nd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 rot="21060000">
            <a:off x="2550960" y="470484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Escríbelo- test review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et irregs, demos adj, ordinal #’s, location words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at infinitive verbs are part of the “u” group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oner, poder, tener, estar, saber, andar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at are the irregular stems for those verbs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us, pud, tuv, estuv, sup, anduv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Remember the song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Let’s sing it!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9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9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at are the “Zorro” endings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SzPct val="1545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é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í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e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mos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SzPct val="1545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aste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ste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ste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steis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SzPct val="1545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ó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ó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o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eron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SzPct val="1545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amos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mos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SzPct val="1545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asteis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steis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Aft>
                <a:spcPts val="2001"/>
              </a:spcAft>
              <a:buSzPct val="1545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aron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 Rounded MT Bold"/>
              </a:rPr>
              <a:t>ieron</a:t>
            </a:r>
            <a:endParaRPr b="0" lang="en-US" sz="1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8" name="Freeform 7"/>
          <p:cNvSpPr/>
          <p:nvPr/>
        </p:nvSpPr>
        <p:spPr>
          <a:xfrm>
            <a:off x="1228680" y="3767040"/>
            <a:ext cx="1855800" cy="2729160"/>
          </a:xfrm>
          <a:custGeom>
            <a:avLst/>
            <a:gdLst/>
            <a:ahLst/>
            <a:rect l="l" t="t" r="r" b="b"/>
            <a:pathLst>
              <a:path w="1856095" h="2729552">
                <a:moveTo>
                  <a:pt x="0" y="0"/>
                </a:moveTo>
                <a:cubicBezTo>
                  <a:pt x="18197" y="22746"/>
                  <a:pt x="31287" y="50761"/>
                  <a:pt x="54591" y="68239"/>
                </a:cubicBezTo>
                <a:cubicBezTo>
                  <a:pt x="69597" y="79493"/>
                  <a:pt x="91216" y="76497"/>
                  <a:pt x="109182" y="81887"/>
                </a:cubicBezTo>
                <a:cubicBezTo>
                  <a:pt x="136740" y="90154"/>
                  <a:pt x="163155" y="102204"/>
                  <a:pt x="191068" y="109182"/>
                </a:cubicBezTo>
                <a:cubicBezTo>
                  <a:pt x="209265" y="113731"/>
                  <a:pt x="227693" y="117440"/>
                  <a:pt x="245659" y="122830"/>
                </a:cubicBezTo>
                <a:cubicBezTo>
                  <a:pt x="245706" y="122844"/>
                  <a:pt x="347994" y="156941"/>
                  <a:pt x="368489" y="163773"/>
                </a:cubicBezTo>
                <a:cubicBezTo>
                  <a:pt x="506048" y="209627"/>
                  <a:pt x="292704" y="139674"/>
                  <a:pt x="464023" y="191069"/>
                </a:cubicBezTo>
                <a:cubicBezTo>
                  <a:pt x="491582" y="199337"/>
                  <a:pt x="545910" y="218364"/>
                  <a:pt x="545910" y="218364"/>
                </a:cubicBezTo>
                <a:cubicBezTo>
                  <a:pt x="559558" y="227463"/>
                  <a:pt x="571864" y="238998"/>
                  <a:pt x="586853" y="245660"/>
                </a:cubicBezTo>
                <a:cubicBezTo>
                  <a:pt x="613145" y="257345"/>
                  <a:pt x="641444" y="263857"/>
                  <a:pt x="668740" y="272955"/>
                </a:cubicBezTo>
                <a:cubicBezTo>
                  <a:pt x="682388" y="277504"/>
                  <a:pt x="695442" y="284568"/>
                  <a:pt x="709683" y="286603"/>
                </a:cubicBezTo>
                <a:lnTo>
                  <a:pt x="805217" y="300251"/>
                </a:lnTo>
                <a:cubicBezTo>
                  <a:pt x="1051260" y="338104"/>
                  <a:pt x="705769" y="287995"/>
                  <a:pt x="982638" y="327546"/>
                </a:cubicBezTo>
                <a:cubicBezTo>
                  <a:pt x="1148089" y="382697"/>
                  <a:pt x="981024" y="331738"/>
                  <a:pt x="1146411" y="368490"/>
                </a:cubicBezTo>
                <a:cubicBezTo>
                  <a:pt x="1160455" y="371611"/>
                  <a:pt x="1173522" y="378185"/>
                  <a:pt x="1187355" y="382137"/>
                </a:cubicBezTo>
                <a:cubicBezTo>
                  <a:pt x="1205390" y="387290"/>
                  <a:pt x="1223911" y="390632"/>
                  <a:pt x="1241946" y="395785"/>
                </a:cubicBezTo>
                <a:cubicBezTo>
                  <a:pt x="1255778" y="399737"/>
                  <a:pt x="1268933" y="405944"/>
                  <a:pt x="1282889" y="409433"/>
                </a:cubicBezTo>
                <a:cubicBezTo>
                  <a:pt x="1305393" y="415059"/>
                  <a:pt x="1328749" y="416978"/>
                  <a:pt x="1351128" y="423081"/>
                </a:cubicBezTo>
                <a:cubicBezTo>
                  <a:pt x="1378886" y="430651"/>
                  <a:pt x="1405101" y="443398"/>
                  <a:pt x="1433014" y="450376"/>
                </a:cubicBezTo>
                <a:lnTo>
                  <a:pt x="1487605" y="464024"/>
                </a:lnTo>
                <a:cubicBezTo>
                  <a:pt x="1469408" y="473122"/>
                  <a:pt x="1451714" y="483305"/>
                  <a:pt x="1433014" y="491319"/>
                </a:cubicBezTo>
                <a:cubicBezTo>
                  <a:pt x="1419791" y="496986"/>
                  <a:pt x="1404647" y="497981"/>
                  <a:pt x="1392071" y="504967"/>
                </a:cubicBezTo>
                <a:cubicBezTo>
                  <a:pt x="1363394" y="520899"/>
                  <a:pt x="1337480" y="541361"/>
                  <a:pt x="1310185" y="559558"/>
                </a:cubicBezTo>
                <a:lnTo>
                  <a:pt x="1269241" y="586854"/>
                </a:lnTo>
                <a:lnTo>
                  <a:pt x="1228298" y="614149"/>
                </a:lnTo>
                <a:cubicBezTo>
                  <a:pt x="1214650" y="623248"/>
                  <a:pt x="1203726" y="640422"/>
                  <a:pt x="1187355" y="641445"/>
                </a:cubicBezTo>
                <a:lnTo>
                  <a:pt x="968991" y="655093"/>
                </a:lnTo>
                <a:cubicBezTo>
                  <a:pt x="941695" y="664191"/>
                  <a:pt x="911044" y="666428"/>
                  <a:pt x="887104" y="682388"/>
                </a:cubicBezTo>
                <a:cubicBezTo>
                  <a:pt x="873456" y="691487"/>
                  <a:pt x="861150" y="703022"/>
                  <a:pt x="846161" y="709684"/>
                </a:cubicBezTo>
                <a:cubicBezTo>
                  <a:pt x="819869" y="721369"/>
                  <a:pt x="791570" y="727881"/>
                  <a:pt x="764274" y="736979"/>
                </a:cubicBezTo>
                <a:lnTo>
                  <a:pt x="723331" y="750627"/>
                </a:lnTo>
                <a:lnTo>
                  <a:pt x="641444" y="777922"/>
                </a:lnTo>
                <a:cubicBezTo>
                  <a:pt x="628593" y="781135"/>
                  <a:pt x="561930" y="796318"/>
                  <a:pt x="545910" y="805218"/>
                </a:cubicBezTo>
                <a:cubicBezTo>
                  <a:pt x="517233" y="821150"/>
                  <a:pt x="495145" y="849435"/>
                  <a:pt x="464023" y="859809"/>
                </a:cubicBezTo>
                <a:cubicBezTo>
                  <a:pt x="436728" y="868908"/>
                  <a:pt x="406077" y="871145"/>
                  <a:pt x="382137" y="887105"/>
                </a:cubicBezTo>
                <a:cubicBezTo>
                  <a:pt x="368489" y="896203"/>
                  <a:pt x="356871" y="909576"/>
                  <a:pt x="341194" y="914400"/>
                </a:cubicBezTo>
                <a:cubicBezTo>
                  <a:pt x="296852" y="928044"/>
                  <a:pt x="250209" y="932598"/>
                  <a:pt x="204716" y="941696"/>
                </a:cubicBezTo>
                <a:cubicBezTo>
                  <a:pt x="104951" y="961649"/>
                  <a:pt x="159417" y="952066"/>
                  <a:pt x="40943" y="968991"/>
                </a:cubicBezTo>
                <a:cubicBezTo>
                  <a:pt x="27295" y="973540"/>
                  <a:pt x="0" y="968253"/>
                  <a:pt x="0" y="982639"/>
                </a:cubicBezTo>
                <a:cubicBezTo>
                  <a:pt x="0" y="1002194"/>
                  <a:pt x="71790" y="1018534"/>
                  <a:pt x="81886" y="1023582"/>
                </a:cubicBezTo>
                <a:cubicBezTo>
                  <a:pt x="96557" y="1030918"/>
                  <a:pt x="107753" y="1044417"/>
                  <a:pt x="122829" y="1050878"/>
                </a:cubicBezTo>
                <a:cubicBezTo>
                  <a:pt x="176237" y="1073767"/>
                  <a:pt x="204257" y="1055120"/>
                  <a:pt x="259307" y="1091821"/>
                </a:cubicBezTo>
                <a:cubicBezTo>
                  <a:pt x="272955" y="1100920"/>
                  <a:pt x="285174" y="1112656"/>
                  <a:pt x="300250" y="1119117"/>
                </a:cubicBezTo>
                <a:cubicBezTo>
                  <a:pt x="326157" y="1130220"/>
                  <a:pt x="418262" y="1143334"/>
                  <a:pt x="436728" y="1146412"/>
                </a:cubicBezTo>
                <a:cubicBezTo>
                  <a:pt x="520909" y="1188503"/>
                  <a:pt x="461288" y="1164677"/>
                  <a:pt x="559558" y="1187355"/>
                </a:cubicBezTo>
                <a:cubicBezTo>
                  <a:pt x="596111" y="1195790"/>
                  <a:pt x="668740" y="1214651"/>
                  <a:pt x="668740" y="1214651"/>
                </a:cubicBezTo>
                <a:cubicBezTo>
                  <a:pt x="682388" y="1223749"/>
                  <a:pt x="695012" y="1234611"/>
                  <a:pt x="709683" y="1241946"/>
                </a:cubicBezTo>
                <a:cubicBezTo>
                  <a:pt x="745099" y="1259654"/>
                  <a:pt x="797565" y="1262252"/>
                  <a:pt x="832513" y="1269242"/>
                </a:cubicBezTo>
                <a:cubicBezTo>
                  <a:pt x="850906" y="1272921"/>
                  <a:pt x="868447" y="1280960"/>
                  <a:pt x="887104" y="1282890"/>
                </a:cubicBezTo>
                <a:cubicBezTo>
                  <a:pt x="1000593" y="1294630"/>
                  <a:pt x="1228298" y="1310185"/>
                  <a:pt x="1228298" y="1310185"/>
                </a:cubicBezTo>
                <a:cubicBezTo>
                  <a:pt x="1352513" y="1351591"/>
                  <a:pt x="1156346" y="1288081"/>
                  <a:pt x="1337480" y="1337481"/>
                </a:cubicBezTo>
                <a:cubicBezTo>
                  <a:pt x="1385223" y="1350502"/>
                  <a:pt x="1431424" y="1366551"/>
                  <a:pt x="1473958" y="1392072"/>
                </a:cubicBezTo>
                <a:cubicBezTo>
                  <a:pt x="1502088" y="1408950"/>
                  <a:pt x="1532647" y="1423467"/>
                  <a:pt x="1555844" y="1446663"/>
                </a:cubicBezTo>
                <a:lnTo>
                  <a:pt x="1637731" y="1528549"/>
                </a:lnTo>
                <a:cubicBezTo>
                  <a:pt x="1658852" y="1591913"/>
                  <a:pt x="1660201" y="1602392"/>
                  <a:pt x="1705970" y="1678675"/>
                </a:cubicBezTo>
                <a:cubicBezTo>
                  <a:pt x="1719618" y="1701421"/>
                  <a:pt x="1735050" y="1723188"/>
                  <a:pt x="1746913" y="1746914"/>
                </a:cubicBezTo>
                <a:cubicBezTo>
                  <a:pt x="1757869" y="1768826"/>
                  <a:pt x="1763252" y="1793240"/>
                  <a:pt x="1774208" y="1815152"/>
                </a:cubicBezTo>
                <a:cubicBezTo>
                  <a:pt x="1827123" y="1920982"/>
                  <a:pt x="1780847" y="1794125"/>
                  <a:pt x="1815152" y="1897039"/>
                </a:cubicBezTo>
                <a:cubicBezTo>
                  <a:pt x="1810603" y="1928884"/>
                  <a:pt x="1809968" y="1961539"/>
                  <a:pt x="1801504" y="1992573"/>
                </a:cubicBezTo>
                <a:cubicBezTo>
                  <a:pt x="1796151" y="2012201"/>
                  <a:pt x="1781352" y="2028114"/>
                  <a:pt x="1774208" y="2047164"/>
                </a:cubicBezTo>
                <a:cubicBezTo>
                  <a:pt x="1767622" y="2064727"/>
                  <a:pt x="1765951" y="2083789"/>
                  <a:pt x="1760561" y="2101755"/>
                </a:cubicBezTo>
                <a:cubicBezTo>
                  <a:pt x="1719001" y="2240289"/>
                  <a:pt x="1744493" y="2127501"/>
                  <a:pt x="1719617" y="2251881"/>
                </a:cubicBezTo>
                <a:cubicBezTo>
                  <a:pt x="1724166" y="2329218"/>
                  <a:pt x="1725556" y="2406806"/>
                  <a:pt x="1733265" y="2483893"/>
                </a:cubicBezTo>
                <a:cubicBezTo>
                  <a:pt x="1737553" y="2526771"/>
                  <a:pt x="1755519" y="2528402"/>
                  <a:pt x="1774208" y="2565779"/>
                </a:cubicBezTo>
                <a:cubicBezTo>
                  <a:pt x="1785164" y="2587691"/>
                  <a:pt x="1790548" y="2612106"/>
                  <a:pt x="1801504" y="2634018"/>
                </a:cubicBezTo>
                <a:cubicBezTo>
                  <a:pt x="1813367" y="2657744"/>
                  <a:pt x="1829286" y="2679226"/>
                  <a:pt x="1842447" y="2702257"/>
                </a:cubicBezTo>
                <a:cubicBezTo>
                  <a:pt x="1847494" y="2711089"/>
                  <a:pt x="1851546" y="2720454"/>
                  <a:pt x="1856095" y="2729552"/>
                </a:cubicBezTo>
              </a:path>
            </a:pathLst>
          </a:cu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49" name="Right Arrow 8"/>
          <p:cNvSpPr/>
          <p:nvPr/>
        </p:nvSpPr>
        <p:spPr>
          <a:xfrm>
            <a:off x="3352680" y="3962520"/>
            <a:ext cx="1828800" cy="8380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523b4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9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800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800" fill="hold"/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800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8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8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00" fill="hold"/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800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8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8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800" fill="hold"/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800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" dur="8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800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800" fill="hold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800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800" fill="hold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800" fill="hold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800" fill="hold"/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9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6" dur="2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e could sing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Nosotros pudimos cantar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900" fill="hold"/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900" fill="hold"/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 rooster was inside the pen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l gallo estuvo dentro del corral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You (sing/fam) had to practice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ú tuviste que practicar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You (plural/familiar) rode bikes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Vosotros anduvisteis en bicicleta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9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Yesterday my younger brother set the table.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yer mi hermano menor puso la mesa.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9" dur="2000"/>
                                        <p:tgtEl>
                                          <p:spTgt spid="9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4" dur="2000"/>
                                        <p:tgtEl>
                                          <p:spTgt spid="9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 knew it!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¡Yo lo supe!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9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9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are the 3 ways to write ‘this’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te, esta, esto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9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Las reglas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Aft>
                <a:spcPts val="2001"/>
              </a:spcAft>
              <a:buSzPct val="10285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Everybody gets a whiteboard/marker/eraser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70000"/>
              </a:lnSpc>
              <a:spcAft>
                <a:spcPts val="2001"/>
              </a:spcAft>
              <a:buSzPct val="1028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Sra. puts up a question 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70000"/>
              </a:lnSpc>
              <a:spcAft>
                <a:spcPts val="2001"/>
              </a:spcAft>
              <a:buSzPct val="1028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Write your answer fast- turn your board upside down/or cover it- marker down!!!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70000"/>
              </a:lnSpc>
              <a:spcAft>
                <a:spcPts val="2001"/>
              </a:spcAft>
              <a:buSzPct val="1028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Say  uno/dos/tres etc. (talk softly) 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70000"/>
              </a:lnSpc>
              <a:spcAft>
                <a:spcPts val="2001"/>
              </a:spcAft>
              <a:buSzPct val="10285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Whoever gets it correct first 2 pts.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70000"/>
              </a:lnSpc>
              <a:spcAft>
                <a:spcPts val="2001"/>
              </a:spcAft>
              <a:buSzPct val="10285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Everybody else 1pt.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70000"/>
              </a:lnSpc>
              <a:spcAft>
                <a:spcPts val="2001"/>
              </a:spcAft>
              <a:buSzPct val="10285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If the person who said uno isn</a:t>
            </a:r>
            <a:r>
              <a:rPr b="0" lang="ja-JP" sz="1700" spc="-1" strike="noStrike">
                <a:solidFill>
                  <a:srgbClr val="ffffff"/>
                </a:solidFill>
                <a:latin typeface="Century Gothic"/>
              </a:rPr>
              <a:t>’</a:t>
            </a:r>
            <a:r>
              <a:rPr b="0" lang="en-US" sz="1700" spc="-1" strike="noStrike">
                <a:solidFill>
                  <a:srgbClr val="ffffff"/>
                </a:solidFill>
                <a:latin typeface="Century Gothic"/>
              </a:rPr>
              <a:t>t correct- check dos etc. </a:t>
            </a: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70000"/>
              </a:lnSpc>
              <a:spcAft>
                <a:spcPts val="2001"/>
              </a:spcAft>
              <a:buSzPct val="10285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does it mean when we use 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o, esto, and aquello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ueter- (when they end in “O” we don’t know!....the gender)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n Spanish this and these have ______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3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Century Gothic"/>
              </a:rPr>
              <a:t>T’s</a:t>
            </a:r>
            <a:endParaRPr b="0" lang="en-US" sz="96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9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book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te libro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1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ese hen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tas gallina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1" dur="2000"/>
                                        <p:tgtEl>
                                          <p:spTgt spid="9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at bul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e toro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9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ose llamas-far away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quellas llama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9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’s that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¿Qué es eso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16" dur="500"/>
                                        <p:tgtEl>
                                          <p:spTgt spid="9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at one masc.- far away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quél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9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ose ones(fem)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ésa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400" fill="hold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400" fill="hold"/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s one (masc)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ést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verbs make up the </a:t>
            </a:r>
            <a:r>
              <a:rPr b="0" lang="ja-JP" sz="24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s locos</a:t>
            </a:r>
            <a:r>
              <a:rPr b="0" lang="ja-JP" sz="2400" spc="-1" strike="noStrike">
                <a:solidFill>
                  <a:srgbClr val="ffffff"/>
                </a:solidFill>
                <a:latin typeface="Century Gothic"/>
              </a:rPr>
              <a:t>”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group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Ir, ser, dar &amp; ver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9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use demonstrative adjective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ose pig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sos cerdo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9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location word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p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rriba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location word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8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utside of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uera d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9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location word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ow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abajo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9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location word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nderneath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ebajo d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9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location word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On top of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Encima d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9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ordinal number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Fourth (fem)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uarta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4" dur="500"/>
                                        <p:tgtEl>
                                          <p:spTgt spid="9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9" dur="2000"/>
                                        <p:tgtEl>
                                          <p:spTgt spid="9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ordinal number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10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(masc)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décimo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1000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9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ordinal number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1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Which two numbers do you drop the “o” before a masc. singular noun?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1 and 3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imero   tercero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Primer      tercer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80000"/>
              </a:lnSpc>
              <a:spcAft>
                <a:spcPts val="2001"/>
              </a:spcAft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entury Gothic"/>
              </a:rPr>
              <a:t>Any of the above answers is good.</a:t>
            </a:r>
            <a:endParaRPr b="0" lang="en-US" sz="22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0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0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0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0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0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ordinal number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3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7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entury Gothic"/>
              </a:rPr>
              <a:t>th (masc)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séptimo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10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hat are the conjugations for ir &amp; ser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930" name=""/>
          <p:cNvGraphicFramePr/>
          <p:nvPr/>
        </p:nvGraphicFramePr>
        <p:xfrm>
          <a:off x="838080" y="3581280"/>
          <a:ext cx="6629400" cy="1981440"/>
        </p:xfrm>
        <a:graphic>
          <a:graphicData uri="http://schemas.openxmlformats.org/drawingml/2006/table">
            <a:tbl>
              <a:tblPr/>
              <a:tblGrid>
                <a:gridCol w="3314880"/>
                <a:gridCol w="3314520"/>
              </a:tblGrid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Fu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Fui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Fu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Fuiste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6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F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 Rounded MT Bold"/>
                        </a:rPr>
                        <a:t>fue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d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Rounded MT Bold"/>
              </a:rPr>
              <a:t>I can correctly spell the ordinal numbers.</a:t>
            </a:r>
            <a:endParaRPr b="0" lang="en-US" sz="41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0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9</a:t>
            </a:r>
            <a:r>
              <a:rPr b="0" lang="en-US" sz="2400" spc="-1" strike="noStrike" baseline="30000">
                <a:solidFill>
                  <a:srgbClr val="ffffff"/>
                </a:solidFill>
                <a:latin typeface="Century Gothic"/>
              </a:rPr>
              <a:t>th</a:t>
            </a: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 (fem)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Aft>
                <a:spcPts val="20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novena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nodeType="clickEffect" fill="hold">
                      <p:stCondLst>
                        <p:cond delay="indefinite"/>
                      </p:stCondLst>
                      <p:childTnLst>
                        <p:par>
                          <p:cTn id="5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2" dur="2000"/>
                                        <p:tgtEl>
                                          <p:spTgt spid="10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at are the conjugations for dar and ver?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graphicFrame>
        <p:nvGraphicFramePr>
          <p:cNvPr id="933" name=""/>
          <p:cNvGraphicFramePr/>
          <p:nvPr/>
        </p:nvGraphicFramePr>
        <p:xfrm>
          <a:off x="1447920" y="3657600"/>
          <a:ext cx="6095880" cy="2133720"/>
        </p:xfrm>
        <a:graphic>
          <a:graphicData uri="http://schemas.openxmlformats.org/drawingml/2006/table">
            <a:tbl>
              <a:tblPr/>
              <a:tblGrid>
                <a:gridCol w="3047760"/>
                <a:gridCol w="3048120"/>
              </a:tblGrid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Di/v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Dimos/vim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Diste/vis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Disteis/viste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</a:tr>
              <a:tr h="71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Dio/v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 Rounded MT Bold"/>
                        </a:rPr>
                        <a:t>Dieron/vier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7377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He saw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Él vio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9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9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e gave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Nosotros dimos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400" fill="hold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400" fill="hold"/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I saw it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Yo lo vi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712800" y="1371600"/>
            <a:ext cx="771696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55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entury Gothic"/>
              </a:rPr>
              <a:t>I can correctly conjugate irregular preterits.</a:t>
            </a:r>
            <a:endParaRPr b="0" lang="en-US" sz="4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41" name=""/>
          <p:cNvSpPr txBox="1"/>
          <p:nvPr/>
        </p:nvSpPr>
        <p:spPr>
          <a:xfrm>
            <a:off x="712800" y="3011040"/>
            <a:ext cx="7716960" cy="338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2001"/>
              </a:spcAft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They gave you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  <a:p>
            <a:pPr marL="343080" indent="-343080">
              <a:spcAft>
                <a:spcPts val="2001"/>
              </a:spcAft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llos te dieron</a:t>
            </a:r>
            <a:endParaRPr b="0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8:17:58Z</dcterms:created>
  <dc:creator>Coffman, Kristie</dc:creator>
  <dc:description/>
  <dc:language>en-US</dc:language>
  <cp:lastModifiedBy>Prine, Stephanie</cp:lastModifiedBy>
  <dcterms:modified xsi:type="dcterms:W3CDTF">2016-04-25T15:58:44Z</dcterms:modified>
  <cp:revision>16</cp:revision>
  <dc:subject/>
  <dc:title>6-2 2nd</dc:title>
</cp:coreProperties>
</file>